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23.png" ContentType="image/png"/>
  <Override PartName="/ppt/media/image6.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7.jpeg" ContentType="image/jpeg"/>
  <Override PartName="/ppt/media/image15.jpeg" ContentType="image/jpeg"/>
  <Override PartName="/ppt/media/image2.png" ContentType="image/png"/>
  <Override PartName="/ppt/media/image24.jpeg" ContentType="image/jpe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7624763"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1560" y="685440"/>
            <a:ext cx="4574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105F-D8D0-4BB1-8839-CE59E7D76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flickr.com/photos/kheelcenter/5279879854" TargetMode="External"/><Relationship Id="rId2" Type="http://schemas.openxmlformats.org/officeDocument/2006/relationships/hyperlink" Target="http://photopin.co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1560" y="685800"/>
            <a:ext cx="457488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out this Help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elp system has been developed to assist Super Simplistic Solutions, Inc’s employees in understanding the general operation of Super Simplistic Solutions, Inc and its present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olicies and procedures are reviewed annually and revised as necessary. Any further revisions of the information contained in the help system will be immediately communicated to all employ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hing in this help system or any other document that is not specifically designed as an "employment contract" constitutes in any manner an expressed or implied employment contract between the employee and Super Simplistic Solutions, Inc . Employment by Super Simplistic Solutions, Inc is strictly "at will" and terminable by either the employee or Super Simplistic Solutions, Inc at any time with or without cause. Any change in this policy can only be made by a written statement signed by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7515-8243-45D1-8BBC-27DDD51A67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1560" y="685800"/>
            <a:ext cx="457488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 and Va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dministr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March 1, May 1, July 1, September 1, and November 1 of each calendar year, each employee will receive 1 day of administrative leave. These administrative leave days may be used for sick days, vacation, holidays, days off during Christmas week, or bereavement leave. They must be taken in full-day increments and may not be broken into hours. Administrative leave days may only be taken as they are ear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dministrative leave days are not used during the calendar year received, they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ve leave is not paid upon termination of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amily and Medical Leave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and Medical Leave Act requires covered employers to provide up to 12 weeks of unpaid, job-protected leave to "eligible" employees for certain family and medical reasons. Employees are eligible if they have worked for a covered employer for at least one year, and for 1,250 hours over the previous 12 months. Unpaid leave must be granted for any of the following rea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child after birth, or placement for adoption or foster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spouse, son or daughter, or parent who has a serious health condition;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r a serious health condition which makes the employee unable to perform the employee's j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mployee's or employer's option, certain kinds of paid leave may be substituted for unpaid leave. The employee may be required to provide advance leave notice and medical certification. Taking of leave may be denied if requirements are not met. For the duration of the FLA leave, the employer must maintain the employee's health coverage under any "group health plan." Upon return from FLA leave, most employees must be restored to their original or equivalent positions with equivalent pay, benefits, and other employment terms. The use of FLA leave cannot result in the loss of any employment benefit that accrued prior to the start of the employee's leave. For more information, please see the Human Resource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 vacation leave is based on the following schedule related to years of employment with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3’s 2011-2012 Annual Vacation Sche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rs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s Allowed pe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 6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1 - 1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ays allowed subject to change without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take vacation days earned after you have been paid for 1000 hours. Each employee will be allowed to carry over into the next calendar year 120 hours of vacation. Any unused vacation in excess of 120 hours will be forfeited. Leave may be taken only after it is earned; no advance leave will be approved. Use of vacation time is subject to management approval, and requests should be made at least 2 weeks in advance. Only persons who remain employed are eligible for vacation. Upon voluntary resignation, employees may be paid for accrued vacation hours to a maximum of 120 hours. 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067A-A51D-4991-A75F-06F4C11E4A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85800"/>
            <a:ext cx="457488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M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ally develop the finest file management software for file collaboration, shared access and websit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4642-C861-41A1-8916-9E5BF66D30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1560" y="685800"/>
            <a:ext cx="457488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s and Alcoh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lcoho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does not permit or condone intoxication or drinking of alcoholic beverages on the premises or at an employee's assigned place of duty on compan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ction will subject an employee to disciplinary action up to and including dismissal. It is Super Simplistic Solutions, Inc' policy to offer assistance to an employee whose work performance is adversely affected by repeated overindulgence in the use of alcoholic bever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work performance indicates you may be having a substance abuse problem, we will request that you seek treatment. Refusal to seek help for your condition or recurrence of the condition each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ff"/>
                </a:solidFill>
                <a:uFillTx/>
                <a:latin typeface="Calibri"/>
                <a:hlinkClick r:id="rId1"/>
              </a:rPr>
              <a:t>Drug Polic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condemns the illegal use of drugs by its employees. No employee may use or possess contraband drugs on the job or work under the influence of any such drugs. This policy applies to all items, which meet the legal definition of "controlled dangerous sub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having difficulties resulting from drug or </a:t>
            </a:r>
            <a:r>
              <a:rPr b="0" lang="en-US" sz="1200" spc="-1" strike="noStrike" u="sng">
                <a:solidFill>
                  <a:srgbClr val="0000ff"/>
                </a:solidFill>
                <a:uFillTx/>
                <a:latin typeface="Calibri"/>
                <a:hlinkClick r:id="rId2"/>
              </a:rPr>
              <a:t>alcohol</a:t>
            </a:r>
            <a:r>
              <a:rPr b="0" lang="en-US" sz="1200" spc="-1" strike="noStrike">
                <a:solidFill>
                  <a:srgbClr val="000000"/>
                </a:solidFill>
                <a:latin typeface="Calibri"/>
              </a:rPr>
              <a:t> use, Super Simplistic Solutions, Inc may request that you enter a rehabilitation program. Failure to enter a rehabilitation program or to complete the program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apprehended while selling or attempting to sell, transport, or distribute drugs while on Super Simplistic Solutions, Inc property or at your assigned place of work, your employment will be terminated and your actions reported to the appropriate law enforcement author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88AD-9331-4DD6-8C53-E417BB32EB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1560" y="685800"/>
            <a:ext cx="457488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ectronic Commun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s and electronic communication media, including electronic mail and access to the Internet, are provided to enable you to perform your duties as a Super Simplistic Solutions, Inc employee more efficiently and productively. These are corporate resources which are to be used only for business and business-related purposes. Your use of Super Simplistic Solutions, Inc’s electronic communications facilities, including computers and network access, constitutes your consent to monitoring and the interception of messages, as permitted by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authorized Super Simplistic Solutions, Inc employees have unrestricted access to information stored on our electronic mail system. Activities performed by these authorized personnel may include retrieving business information, trouble-shooting hardware and software problems, preventing systems misuse, assuring compliance with software distribution policies, and complying with legal and regulatory requests for information. Given these business requirements, communications sent by e-mail, and on the Internet, should not be considered private or personal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responsible for using electronic communications facilities in a manner that is productive, professional, polite, and cost-effective. Messages originating from Super Simplistic Solutions, Incare perceived by recipients to represent the corporation as well as the individual employee, even if accompanied by a disclaimer. Therefore, when you send electronic messages outside Super Simplistic Solutions, Inc’ boundaries -- through Internet or other computer networks - you are perceived as communicating on behalf of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electronic communications facilities may not be used to buy, sell, trade, advertise, or otherwise distribute personal items. Super Simplistic Solutions, Inc’ electronic mail and the Internet should not be used for messages containing religious, sexual, political or defamatory content. Messages containing profane or obscene language are forbidden. Complaints or adversarial messages about vendors, private contractors, or other services providers may not be communicated except by personnel authorized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olation of Super Simplistic Solutions, Inc’ policy governing use of the electronic communications facilities may subject you to disciplinary action up to and including termination. Super Simplistic Solutions, Inc will not defend, indemnify, or otherwise protect employees acting contrary to this policy in the event that their improper activities provoke threats, demands, claims, or other legal actions seeking civil or criminal li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Information Servi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Our Webma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223A-8499-4D05-9FF8-5FD9EC33F4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1560" y="685800"/>
            <a:ext cx="457488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sente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specific circumstances Super Simplistic Solutions, Inc will permit an employee to take time off from work without compensation. Circumstances and internal work schedules will dictate where and when this type of leave will be allowed. Any request for leave of this type must be cleared in advance by your division manager and with the approval of the division VP and president. During such leave your health/life coverage may be maintained for a period not to exceed 30 days, but in no case will there be an additional accrual of sick or vac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notify your supervisor in writing at the earliest possible date of intent to request leave. The request should state the reason for leave, indicate the anticipated length of absence, and be accompanied by applicable documents (physician's statement, letter of acceptance from college, etc.).</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05B9-8708-4502-ABDD-5AB8F4977D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1560" y="685800"/>
            <a:ext cx="457488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vertime may be worked without the approval of your direct supervi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time will be paid to all hourly employees for all hours worked in excess of 40 hours in a 1-week timeframe. Overtime will be paid at the rate of time and one-half your regular rate of p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aried employees are expected to work the hours necessary to accomplish their duties. Compensatory time may be offered to salaried employees. The purpose of compensatory time is not to provide additional vacation or leave time. It is provided to alleviate the short-term stress resulting from working additional hours. Compensatory time should not be charged for such things as professional reading or outside professional meetings. Your department manager will determine, based on overtime worked, the appropriate and applicable amount of compensato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ued compensatory time must be taken within two pay periods after accruing it or it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uthorization for Employee's Earned Compensatory Time" request must be completed and signed prior to taking compensatory time in excess of 8 hours. Request forms are available in Human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cation hours, administrative leave hours, and holidays are not considered when computing over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30F9-D7D4-4FFD-A8EE-9ECC62DEDE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1560" y="685800"/>
            <a:ext cx="457488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work week is Monday through Sunday. You are paid biweekly on Wednesdays. Checks are distributed after 2:00 p.m. The law requires that an accurate record be kept of the time you work. You must complete timesheets daily and turn them in to your supervisor every Monday morning. Failure to complete and turn in a time sheet will result in delaying your paycheck until the following pay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458C-8FA9-4BF5-93C8-D6D7A080F2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1560" y="685800"/>
            <a:ext cx="457488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pecial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401(k)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enroll in the Super Simplistic Solutions, Inc 401(k) Plan if you are </a:t>
            </a:r>
            <a:r>
              <a:rPr b="1" lang="en-US" sz="1200" spc="-1" strike="noStrike">
                <a:solidFill>
                  <a:srgbClr val="000000"/>
                </a:solidFill>
                <a:latin typeface="Calibri"/>
              </a:rPr>
              <a:t>21 years or older</a:t>
            </a:r>
            <a:r>
              <a:rPr b="0" lang="en-US" sz="1200" spc="-1" strike="noStrike">
                <a:solidFill>
                  <a:srgbClr val="000000"/>
                </a:solidFill>
                <a:latin typeface="Calibri"/>
              </a:rPr>
              <a:t> and have completed one year of service with a minimum of 1,000 hours, beginning with your hire date. The plan allows you make pre-tax contributions to your account through automatic payroll deductions. For each dollar you contribute, Super Simplistic Solutions, Inc will match 50 cents to a maximum of salary reduction not to exceed $3000. Super Simplistic Solutions, Inc’s profit-sharing distributions, when they occur, are placed into the 401(k) Plan at the end of the calendar year. For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orkers Compensation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provides a comprehensive workers compensation insurance plan at no cost to employees. This plan covers any injury or illness sustained in the course of employment that requires medical, surgical, or hospital treatment. Subject to applicable legal requirements, workers compensation insurance provides benefits after a short waiting period or, if the employee is hospitalized, immediat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s who sustain work-related injuries or illnesses should inform their supervisor immediately. No matter how minor an on-the-job injury may appear, it is important that it be reported immediately (within 2 days of the incident). This will enable an eligible employee to qualify for coverage as quickly as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loyee Assistan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recognizes that a wide range of personal problems can affect an employee's job performance. Examples of such problems include marital or family distress, emotional difficulties, alcohol and/or drug abuse, and financial or legal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Employee Assistance Program (EAP) is to help you resolve your problems and to minimize their impact on job performance. The program is designed to identify the problem, offer short-term counseling, and direct you to any further assistance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believes it is in the best interests of the employee, the employee's family, and the employer to provide an employee service that can provide help with complete confidentiality. Super Simplistic Solutions, Inc has contracted with the XYZ Employee Assistance Program of Uptown Hospital to provide this service. Their number is 703/555-1212. If you would like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1008-6009-4C11-B4B4-0D9309691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1560" y="685800"/>
            <a:ext cx="457488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ermin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esig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voluntarily terminate your employment with Super Simplistic Solutions, Inc, you are required to provide a written statement of resignation. The company requires a minimum of 2 weeks'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quired to turn in to the Human Resources Director your Policy and Procedures help system and your building security cards, keys, credit cards, and any other property belonging to Super Simplistic Solutions, Inc. Prior to departure, you will be asked to complete an exit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isciplinary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is committed to ensuring the fair, equitable, and consistent treatment of its employees. The purpose of this section is to communicate some of the standards and procedures used by management in developing and implementing decisions concerning employee interests. These standards and procedures are reviewed here to provide guidance and to assure employees that discipline will be administered in a fair and consistent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t of these disciplinary policies and procedures is to assist and encourage employees to correct their conduct and to achieve satisfactory work performance. For serious instances of misconduct, the employee can be discharged without 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ess serious instances of misconduct or unsatisfactory work performance, the employee can be released from employment following expiration of the final notice (see below) if there is no improvement in work performance or a correction of the instance of miscon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First Notice. The first notice is normally an oral notification of unsatisfactory performance. At this time, the reasons for the warning are explained to the employee by the immediate supervisor and the employee is counseled on corrective actions to be taken and how work performance can be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econd Notice. The second notice is normally issued when the corrective actions specified in the first notice have not been taken and the employee's performance has not improved to acceptable standards. When a supervisor determines that a second notice is called for, he/she discusses the employee's total performance with, and obtains the approval of, the department director to initiate a special merit review with the employee. It explains the reasons for the issuance of the second notice, indicates the corrective action to be taken, and advises the employee of possible implications of continued lack of improvement. The special review notes that it is a second notice and specifies a time for the performance impro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Final Notice. Should the second notice period expire with the employee's performance remaining at an unacceptable level, the supervisor requests permission from the department director to conduct a final merit review. This review specifies that it is a final notice and includes a time period for improvement; it clearly states that termination will follow if substandard performance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Discharge. Discharge is the separation from employment for serious breach of company policy or insubordination, dishonesty, or gross misconduct. The employee being discharged will receive a written statement either in person or by mail to an address known to Super Simplistic Solutions, Inc. However, advance notice is not required. Transfer or demotion is not used in lieu of termination. No vacation leave pay is given in the event of dis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visor recommends discharge to the department director and Human Resources. If it is determined that discharge is in order, the department director or the manager of Human Resources meets with the employee and issues a written discharge notice. At this time, the employee is notified of his or her status as a terminated employee. A discharge requires the specific authorization of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Unemployment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compensation is an insurance plan provided under law to give you financial assistance when you are out of work. The company contributes to unemployment funds. You, as an employee, make no contribution. If you lose your job through no fault of your own, contact your nearest State Unemployment Office to determine whether or not you are eligible for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3498-04E4-4D52-9279-DF6C849F53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A6275-817D-4610-BDBD-E97A862AB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6FF3-CD6A-4538-80D0-B960D6B09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737AA-FB89-4374-8F2E-BE5CF1208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D5507-B1E9-4724-A67B-D7603D0BD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9B47E-8261-4D6B-9D20-139285263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2720C-88B0-45BE-8C48-D68C4BB8D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6E3C9-12D4-413F-8C9A-DA824E068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DF9C0-0B8D-49BA-871C-D7B3D1187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3B30F-4F1A-40ED-A13A-9557BF381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45E46-63AE-4564-BB53-AC3D9CE0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464B-8265-407D-A4AB-C780FFC84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4060-C255-4825-8239-66AC69BA7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vignette"/>
          <p:cNvGrpSpPr/>
          <p:nvPr/>
        </p:nvGrpSpPr>
        <p:grpSpPr>
          <a:xfrm>
            <a:off x="0" y="0"/>
            <a:ext cx="7626240" cy="5718240"/>
            <a:chOff x="0" y="0"/>
            <a:chExt cx="7626240" cy="5718240"/>
          </a:xfrm>
        </p:grpSpPr>
        <p:pic>
          <p:nvPicPr>
            <p:cNvPr id="1" name="vignette" descr=""/>
            <p:cNvPicPr/>
            <p:nvPr/>
          </p:nvPicPr>
          <p:blipFill>
            <a:blip r:embed="rId3"/>
            <a:stretch/>
          </p:blipFill>
          <p:spPr>
            <a:xfrm>
              <a:off x="0" y="0"/>
              <a:ext cx="7626240" cy="5718240"/>
            </a:xfrm>
            <a:prstGeom prst="rect">
              <a:avLst/>
            </a:prstGeom>
            <a:ln w="0">
              <a:noFill/>
            </a:ln>
          </p:spPr>
        </p:pic>
        <p:sp>
          <p:nvSpPr>
            <p:cNvPr id="2"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380880" y="5297040"/>
            <a:ext cx="17798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04960" y="5297040"/>
            <a:ext cx="24163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5465520" y="5297040"/>
            <a:ext cx="177948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6472-D9E8-4E75-BFA5-FA49B03C8F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vignette"/>
          <p:cNvGrpSpPr/>
          <p:nvPr/>
        </p:nvGrpSpPr>
        <p:grpSpPr>
          <a:xfrm>
            <a:off x="0" y="0"/>
            <a:ext cx="7626240" cy="5718240"/>
            <a:chOff x="0" y="0"/>
            <a:chExt cx="7626240" cy="5718240"/>
          </a:xfrm>
        </p:grpSpPr>
        <p:pic>
          <p:nvPicPr>
            <p:cNvPr id="45" name="vignette" descr=""/>
            <p:cNvPicPr/>
            <p:nvPr/>
          </p:nvPicPr>
          <p:blipFill>
            <a:blip r:embed="rId3"/>
            <a:stretch/>
          </p:blipFill>
          <p:spPr>
            <a:xfrm>
              <a:off x="0" y="0"/>
              <a:ext cx="7626240" cy="5718240"/>
            </a:xfrm>
            <a:prstGeom prst="rect">
              <a:avLst/>
            </a:prstGeom>
            <a:ln w="0">
              <a:noFill/>
            </a:ln>
          </p:spPr>
        </p:pic>
        <p:sp>
          <p:nvSpPr>
            <p:cNvPr id="46"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5" name="vignette"/>
          <p:cNvGrpSpPr/>
          <p:nvPr/>
        </p:nvGrpSpPr>
        <p:grpSpPr>
          <a:xfrm>
            <a:off x="0" y="0"/>
            <a:ext cx="7626240" cy="5718240"/>
            <a:chOff x="0" y="0"/>
            <a:chExt cx="7626240" cy="5718240"/>
          </a:xfrm>
        </p:grpSpPr>
        <p:pic>
          <p:nvPicPr>
            <p:cNvPr id="86" name="vignette" descr=""/>
            <p:cNvPicPr/>
            <p:nvPr/>
          </p:nvPicPr>
          <p:blipFill>
            <a:blip r:embed="rId3"/>
            <a:stretch/>
          </p:blipFill>
          <p:spPr>
            <a:xfrm>
              <a:off x="0" y="0"/>
              <a:ext cx="7626240" cy="5718240"/>
            </a:xfrm>
            <a:prstGeom prst="rect">
              <a:avLst/>
            </a:prstGeom>
            <a:ln w="0">
              <a:noFill/>
            </a:ln>
          </p:spPr>
        </p:pic>
        <p:sp>
          <p:nvSpPr>
            <p:cNvPr id="87"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flickr.com/photos/annabelfarleyphotography/5211944207" TargetMode="External"/><Relationship Id="rId6" Type="http://schemas.openxmlformats.org/officeDocument/2006/relationships/hyperlink" Target="http://photopin.com/" TargetMode="External"/><Relationship Id="rId7" Type="http://schemas.openxmlformats.org/officeDocument/2006/relationships/slideLayout" Target="../slideLayouts/slideLayout25.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hyperlink" Target="http://www.flickr.com/photos/kheelcenter/5279192617" TargetMode="External"/><Relationship Id="rId5" Type="http://schemas.openxmlformats.org/officeDocument/2006/relationships/hyperlink" Target="http://photopin.com/" TargetMode="External"/><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www.flickr.com/photos/kheelcenter/5279879854" TargetMode="External"/><Relationship Id="rId4" Type="http://schemas.openxmlformats.org/officeDocument/2006/relationships/hyperlink" Target="http://www.flickr.com/photos/kheelcenter/5279879854" TargetMode="External"/><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www.flickr.com/photos/kheelcenter/5279881110" TargetMode="External"/><Relationship Id="rId4" Type="http://schemas.openxmlformats.org/officeDocument/2006/relationships/hyperlink" Target="http://www.flickr.com/photos/kheelcenter/5279881110"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www.flickr.com/photos/kheelcenter/5279881110" TargetMode="External"/><Relationship Id="rId4" Type="http://schemas.openxmlformats.org/officeDocument/2006/relationships/hyperlink" Target="http://photopin.com/" TargetMode="External"/><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hyperlink" Target="http://www.flickr.com/photos/79716443@N00/862429492" TargetMode="External"/><Relationship Id="rId4" Type="http://schemas.openxmlformats.org/officeDocument/2006/relationships/hyperlink" Target="http://www.flickr.com/photos/79716443@N00/862429492" TargetMode="External"/><Relationship Id="rId5" Type="http://schemas.openxmlformats.org/officeDocument/2006/relationships/hyperlink" Target="http://www.flickr.com/photos/79716443@N00/862429492" TargetMode="External"/><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51"/>
          <p:cNvGrpSpPr/>
          <p:nvPr/>
        </p:nvGrpSpPr>
        <p:grpSpPr>
          <a:xfrm>
            <a:off x="517680" y="1519200"/>
            <a:ext cx="3447000" cy="3437280"/>
            <a:chOff x="517680" y="1519200"/>
            <a:chExt cx="3447000" cy="3437280"/>
          </a:xfrm>
        </p:grpSpPr>
        <p:sp>
          <p:nvSpPr>
            <p:cNvPr id="134" name="Rectangle 52"/>
            <p:cNvSpPr/>
            <p:nvPr/>
          </p:nvSpPr>
          <p:spPr>
            <a:xfrm flipH="1" flipV="1" rot="19246800">
              <a:off x="357120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53"/>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54"/>
            <p:cNvSpPr/>
            <p:nvPr/>
          </p:nvSpPr>
          <p:spPr>
            <a:xfrm flipH="1" rot="2470800">
              <a:off x="3569400" y="16261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Rectangle 55"/>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 name="Group 56"/>
          <p:cNvGrpSpPr/>
          <p:nvPr/>
        </p:nvGrpSpPr>
        <p:grpSpPr>
          <a:xfrm>
            <a:off x="634680" y="1650960"/>
            <a:ext cx="3241800" cy="3175200"/>
            <a:chOff x="634680" y="1650960"/>
            <a:chExt cx="3241800" cy="3175200"/>
          </a:xfrm>
        </p:grpSpPr>
        <p:sp>
          <p:nvSpPr>
            <p:cNvPr id="139" name="Border"/>
            <p:cNvSpPr/>
            <p:nvPr/>
          </p:nvSpPr>
          <p:spPr>
            <a:xfrm rot="5400000">
              <a:off x="667800" y="1617480"/>
              <a:ext cx="3175200" cy="32418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58" descr=""/>
            <p:cNvPicPr/>
            <p:nvPr/>
          </p:nvPicPr>
          <p:blipFill>
            <a:blip r:embed="rId1"/>
            <a:stretch/>
          </p:blipFill>
          <p:spPr>
            <a:xfrm>
              <a:off x="734040" y="1775520"/>
              <a:ext cx="3043800" cy="2920320"/>
            </a:xfrm>
            <a:prstGeom prst="rect">
              <a:avLst/>
            </a:prstGeom>
            <a:ln w="0">
              <a:noFill/>
            </a:ln>
          </p:spPr>
        </p:pic>
      </p:grpSp>
      <p:sp>
        <p:nvSpPr>
          <p:cNvPr id="141" name="Isosceles Triangle 59"/>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Isosceles Triangle 60"/>
          <p:cNvSpPr/>
          <p:nvPr/>
        </p:nvSpPr>
        <p:spPr>
          <a:xfrm flipH="1" rot="2549400">
            <a:off x="369360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Isosceles Triangle 61"/>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Picture 1" descr=""/>
          <p:cNvPicPr/>
          <p:nvPr/>
        </p:nvPicPr>
        <p:blipFill>
          <a:blip r:embed="rId2"/>
          <a:stretch/>
        </p:blipFill>
        <p:spPr>
          <a:xfrm>
            <a:off x="1762200" y="57240"/>
            <a:ext cx="4102200" cy="1560600"/>
          </a:xfrm>
          <a:prstGeom prst="rect">
            <a:avLst/>
          </a:prstGeom>
          <a:ln w="0">
            <a:noFill/>
          </a:ln>
        </p:spPr>
      </p:pic>
      <p:sp>
        <p:nvSpPr>
          <p:cNvPr id="145" name="Isosceles Triangle 62"/>
          <p:cNvSpPr/>
          <p:nvPr/>
        </p:nvSpPr>
        <p:spPr>
          <a:xfrm flipH="1" flipV="1" rot="19147200">
            <a:off x="369504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itle Tape"/>
          <p:cNvSpPr/>
          <p:nvPr/>
        </p:nvSpPr>
        <p:spPr>
          <a:xfrm rot="21364800">
            <a:off x="3446640" y="82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aper"/>
          <p:cNvSpPr/>
          <p:nvPr/>
        </p:nvSpPr>
        <p:spPr>
          <a:xfrm>
            <a:off x="4459320" y="2225520"/>
            <a:ext cx="2595600" cy="19018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Content Top"/>
          <p:cNvSpPr/>
          <p:nvPr/>
        </p:nvSpPr>
        <p:spPr>
          <a:xfrm rot="2115600">
            <a:off x="6654600" y="22176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Content bottom"/>
          <p:cNvSpPr/>
          <p:nvPr/>
        </p:nvSpPr>
        <p:spPr>
          <a:xfrm rot="2115600">
            <a:off x="4278240" y="39524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BW logo" descr=""/>
          <p:cNvPicPr/>
          <p:nvPr/>
        </p:nvPicPr>
        <p:blipFill>
          <a:blip r:embed="rId3"/>
          <a:stretch/>
        </p:blipFill>
        <p:spPr>
          <a:xfrm rot="21365400">
            <a:off x="4762440" y="2635200"/>
            <a:ext cx="1960560" cy="1017720"/>
          </a:xfrm>
          <a:prstGeom prst="rect">
            <a:avLst/>
          </a:prstGeom>
          <a:ln w="0">
            <a:noFill/>
          </a:ln>
          <a:effectLst>
            <a:outerShdw dist="153753" dir="2700000" blurRad="0" rotWithShape="0">
              <a:srgbClr val="000000">
                <a:alpha val="40000"/>
              </a:srgbClr>
            </a:outerShdw>
          </a:effectLst>
        </p:spPr>
      </p:pic>
      <p:pic>
        <p:nvPicPr>
          <p:cNvPr id="151" name="Color logo" descr=""/>
          <p:cNvPicPr/>
          <p:nvPr/>
        </p:nvPicPr>
        <p:blipFill>
          <a:blip r:embed="rId4"/>
          <a:stretch/>
        </p:blipFill>
        <p:spPr>
          <a:xfrm rot="21325800">
            <a:off x="4762080" y="2633400"/>
            <a:ext cx="1959120" cy="1017360"/>
          </a:xfrm>
          <a:prstGeom prst="rect">
            <a:avLst/>
          </a:prstGeom>
          <a:ln w="0">
            <a:noFill/>
          </a:ln>
          <a:effectLst>
            <a:outerShdw dist="153753" dir="2700000" blurRad="0" rotWithShape="0">
              <a:srgbClr val="000000">
                <a:alpha val="40000"/>
              </a:srgbClr>
            </a:outerShdw>
          </a:effectLst>
        </p:spPr>
      </p:pic>
      <p:sp>
        <p:nvSpPr>
          <p:cNvPr id="152" name="TextBox 80"/>
          <p:cNvSpPr/>
          <p:nvPr/>
        </p:nvSpPr>
        <p:spPr>
          <a:xfrm>
            <a:off x="-74520" y="5504040"/>
            <a:ext cx="77756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5"/>
              </a:rPr>
              <a:t>http://www.flickr.com/photos/austinevan/3226173611/</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6"/>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0">
                                  <p:stCondLst>
                                    <p:cond delay="3000"/>
                                  </p:stCondLst>
                                  <p:childTnLst>
                                    <p:animEffect filter="fade" transition="out">
                                      <p:cBhvr additive="repl">
                                        <p:cTn id="6" dur="2000"/>
                                        <p:tgtEl>
                                          <p:spTgt spid="151"/>
                                        </p:tgtEl>
                                      </p:cBhvr>
                                    </p:animEffect>
                                    <p:set>
                                      <p:cBhvr>
                                        <p:cTn id="7" dur="1" fill="hold">
                                          <p:stCondLst>
                                            <p:cond delay="1999"/>
                                          </p:stCondLst>
                                        </p:cTn>
                                        <p:tgtEl>
                                          <p:spTgt spid="15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50"/>
                                        </p:tgtEl>
                                        <p:attrNameLst>
                                          <p:attrName>style.visibility</p:attrName>
                                        </p:attrNameLst>
                                      </p:cBhvr>
                                      <p:to>
                                        <p:strVal val="visible"/>
                                      </p:to>
                                    </p:set>
                                    <p:animEffect filter="fade" transition="in">
                                      <p:cBhvr additive="repl">
                                        <p:cTn id="10"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254160" y="1714680"/>
            <a:ext cx="4359600" cy="3301200"/>
            <a:chOff x="254160" y="1714680"/>
            <a:chExt cx="4359600" cy="3301200"/>
          </a:xfrm>
        </p:grpSpPr>
        <p:sp>
          <p:nvSpPr>
            <p:cNvPr id="337" name="Rectangle 3"/>
            <p:cNvSpPr/>
            <p:nvPr/>
          </p:nvSpPr>
          <p:spPr>
            <a:xfrm flipH="1" flipV="1" rot="19246800">
              <a:off x="4206960" y="47372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4"/>
            <p:cNvSpPr/>
            <p:nvPr/>
          </p:nvSpPr>
          <p:spPr>
            <a:xfrm flipH="1" rot="2353200">
              <a:off x="267120" y="47379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ectangle 5"/>
            <p:cNvSpPr/>
            <p:nvPr/>
          </p:nvSpPr>
          <p:spPr>
            <a:xfrm flipH="1" rot="2470800">
              <a:off x="4222800" y="18172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tangle 6"/>
            <p:cNvSpPr/>
            <p:nvPr/>
          </p:nvSpPr>
          <p:spPr>
            <a:xfrm rot="19246800">
              <a:off x="289080" y="1830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41" name="Picture 1" descr=""/>
          <p:cNvPicPr/>
          <p:nvPr/>
        </p:nvPicPr>
        <p:blipFill>
          <a:blip r:embed="rId1"/>
          <a:stretch/>
        </p:blipFill>
        <p:spPr>
          <a:xfrm>
            <a:off x="900000" y="403200"/>
            <a:ext cx="3402000" cy="1244520"/>
          </a:xfrm>
          <a:prstGeom prst="rect">
            <a:avLst/>
          </a:prstGeom>
          <a:ln w="0">
            <a:noFill/>
          </a:ln>
        </p:spPr>
      </p:pic>
      <p:sp>
        <p:nvSpPr>
          <p:cNvPr id="342" name="Title Tape"/>
          <p:cNvSpPr/>
          <p:nvPr/>
        </p:nvSpPr>
        <p:spPr>
          <a:xfrm rot="21364800">
            <a:off x="2135160" y="485280"/>
            <a:ext cx="57168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3" name="Group 11"/>
          <p:cNvGrpSpPr/>
          <p:nvPr/>
        </p:nvGrpSpPr>
        <p:grpSpPr>
          <a:xfrm>
            <a:off x="380520" y="1841400"/>
            <a:ext cx="4116600" cy="3079800"/>
            <a:chOff x="380520" y="1841400"/>
            <a:chExt cx="4116600" cy="3079800"/>
          </a:xfrm>
        </p:grpSpPr>
        <p:sp>
          <p:nvSpPr>
            <p:cNvPr id="344" name="Border"/>
            <p:cNvSpPr/>
            <p:nvPr/>
          </p:nvSpPr>
          <p:spPr>
            <a:xfrm rot="5400000">
              <a:off x="898920" y="1322640"/>
              <a:ext cx="3079800" cy="4116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5" name="Picture 13" descr=""/>
            <p:cNvPicPr/>
            <p:nvPr/>
          </p:nvPicPr>
          <p:blipFill>
            <a:blip r:embed="rId2"/>
            <a:srcRect l="0" t="2672" r="3535" b="0"/>
            <a:stretch/>
          </p:blipFill>
          <p:spPr>
            <a:xfrm>
              <a:off x="507600" y="1968120"/>
              <a:ext cx="3863520" cy="2818080"/>
            </a:xfrm>
            <a:prstGeom prst="rect">
              <a:avLst/>
            </a:prstGeom>
            <a:ln w="0">
              <a:noFill/>
            </a:ln>
          </p:spPr>
        </p:pic>
      </p:grpSp>
      <p:grpSp>
        <p:nvGrpSpPr>
          <p:cNvPr id="346" name="Group 14"/>
          <p:cNvGrpSpPr/>
          <p:nvPr/>
        </p:nvGrpSpPr>
        <p:grpSpPr>
          <a:xfrm>
            <a:off x="135720" y="1570320"/>
            <a:ext cx="4602960" cy="3589920"/>
            <a:chOff x="135720" y="1570320"/>
            <a:chExt cx="4602960" cy="3589920"/>
          </a:xfrm>
        </p:grpSpPr>
        <p:sp>
          <p:nvSpPr>
            <p:cNvPr id="347" name="Isosceles Triangle 15"/>
            <p:cNvSpPr/>
            <p:nvPr/>
          </p:nvSpPr>
          <p:spPr>
            <a:xfrm rot="19147200">
              <a:off x="172440" y="168696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Isosceles Triangle 16"/>
            <p:cNvSpPr/>
            <p:nvPr/>
          </p:nvSpPr>
          <p:spPr>
            <a:xfrm flipH="1" rot="2549400">
              <a:off x="4344480" y="167292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Isosceles Triangle 17"/>
            <p:cNvSpPr/>
            <p:nvPr/>
          </p:nvSpPr>
          <p:spPr>
            <a:xfrm flipV="1" rot="2452800">
              <a:off x="152280" y="4858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Isosceles Triangle 18"/>
            <p:cNvSpPr/>
            <p:nvPr/>
          </p:nvSpPr>
          <p:spPr>
            <a:xfrm flipH="1" flipV="1" rot="19147200">
              <a:off x="4321800" y="4867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1" name="Group 19"/>
          <p:cNvGrpSpPr/>
          <p:nvPr/>
        </p:nvGrpSpPr>
        <p:grpSpPr>
          <a:xfrm>
            <a:off x="4826160" y="650880"/>
            <a:ext cx="2570040" cy="4578480"/>
            <a:chOff x="4826160" y="650880"/>
            <a:chExt cx="2570040" cy="4578480"/>
          </a:xfrm>
        </p:grpSpPr>
        <p:grpSp>
          <p:nvGrpSpPr>
            <p:cNvPr id="352" name="Content"/>
            <p:cNvGrpSpPr/>
            <p:nvPr/>
          </p:nvGrpSpPr>
          <p:grpSpPr>
            <a:xfrm>
              <a:off x="4826160" y="650880"/>
              <a:ext cx="2570040" cy="4578480"/>
              <a:chOff x="4826160" y="650880"/>
              <a:chExt cx="2570040" cy="4578480"/>
            </a:xfrm>
          </p:grpSpPr>
          <p:sp>
            <p:nvSpPr>
              <p:cNvPr id="353" name="Paper"/>
              <p:cNvSpPr/>
              <p:nvPr/>
            </p:nvSpPr>
            <p:spPr>
              <a:xfrm>
                <a:off x="4826160" y="650880"/>
                <a:ext cx="257004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4" name="Text"/>
              <p:cNvSpPr/>
              <p:nvPr/>
            </p:nvSpPr>
            <p:spPr>
              <a:xfrm>
                <a:off x="4981320" y="859320"/>
                <a:ext cx="20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Administrative Leave</a:t>
                </a:r>
                <a:endParaRPr b="0" lang="en-US" sz="1000" spc="-1" strike="noStrike">
                  <a:solidFill>
                    <a:srgbClr val="000000"/>
                  </a:solidFill>
                  <a:latin typeface="Calibri"/>
                </a:endParaRPr>
              </a:p>
            </p:txBody>
          </p:sp>
        </p:grpSp>
        <p:sp>
          <p:nvSpPr>
            <p:cNvPr id="355" name="TextBox 21"/>
            <p:cNvSpPr/>
            <p:nvPr/>
          </p:nvSpPr>
          <p:spPr>
            <a:xfrm>
              <a:off x="4989240" y="1104840"/>
              <a:ext cx="208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Every other month each employee will receive 1 day of administrative leave. These days may be used at any time but must be taken in full-day increments and will be forfeited if not used during the calendar year receive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56" name="Text"/>
            <p:cNvSpPr/>
            <p:nvPr/>
          </p:nvSpPr>
          <p:spPr>
            <a:xfrm>
              <a:off x="4981320" y="2379600"/>
              <a:ext cx="19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Family &amp; Medical </a:t>
              </a:r>
              <a:br>
                <a:rPr sz="1000"/>
              </a:br>
              <a:r>
                <a:rPr b="1" lang="en-US" sz="1000" spc="-1" strike="noStrike">
                  <a:solidFill>
                    <a:srgbClr val="000000"/>
                  </a:solidFill>
                  <a:latin typeface="Verdana"/>
                  <a:ea typeface="Adobe Ming Std L"/>
                </a:rPr>
                <a:t>Leave Act</a:t>
              </a:r>
              <a:endParaRPr b="0" lang="en-US" sz="1000" spc="-1" strike="noStrike">
                <a:solidFill>
                  <a:srgbClr val="000000"/>
                </a:solidFill>
                <a:latin typeface="Calibri"/>
              </a:endParaRPr>
            </a:p>
          </p:txBody>
        </p:sp>
        <p:sp>
          <p:nvSpPr>
            <p:cNvPr id="357" name="TextBox 23"/>
            <p:cNvSpPr/>
            <p:nvPr/>
          </p:nvSpPr>
          <p:spPr>
            <a:xfrm>
              <a:off x="4989240" y="2781360"/>
              <a:ext cx="2082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Family and Medical Leave Act requires covered employers to provide up to 12 weeks of unpaid, job-protected leave to "eligible" employees for certain family and medical reasons. </a:t>
              </a:r>
              <a:endParaRPr b="0" lang="en-US" sz="900" spc="-1" strike="noStrike">
                <a:solidFill>
                  <a:srgbClr val="000000"/>
                </a:solidFill>
                <a:latin typeface="Calibri"/>
              </a:endParaRPr>
            </a:p>
          </p:txBody>
        </p:sp>
      </p:grpSp>
      <p:grpSp>
        <p:nvGrpSpPr>
          <p:cNvPr id="358" name="Group 26"/>
          <p:cNvGrpSpPr/>
          <p:nvPr/>
        </p:nvGrpSpPr>
        <p:grpSpPr>
          <a:xfrm>
            <a:off x="4684680" y="403200"/>
            <a:ext cx="2867040" cy="5073840"/>
            <a:chOff x="4684680" y="403200"/>
            <a:chExt cx="2867040" cy="5073840"/>
          </a:xfrm>
        </p:grpSpPr>
        <p:sp>
          <p:nvSpPr>
            <p:cNvPr id="359" name="Content Top"/>
            <p:cNvSpPr/>
            <p:nvPr/>
          </p:nvSpPr>
          <p:spPr>
            <a:xfrm rot="2115600">
              <a:off x="6962040" y="5457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Content bottom"/>
            <p:cNvSpPr/>
            <p:nvPr/>
          </p:nvSpPr>
          <p:spPr>
            <a:xfrm rot="2115600">
              <a:off x="4701960" y="50914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for_tea_too/1924570669 via http://photopin.com </a:t>
            </a:r>
            <a:endParaRPr b="0" lang="en-US" sz="1000" spc="-1" strike="noStrike">
              <a:solidFill>
                <a:srgbClr val="000000"/>
              </a:solidFill>
              <a:latin typeface="Calibri"/>
            </a:endParaRPr>
          </a:p>
        </p:txBody>
      </p:sp>
      <p:sp>
        <p:nvSpPr>
          <p:cNvPr id="362" name="Text"/>
          <p:cNvSpPr/>
          <p:nvPr/>
        </p:nvSpPr>
        <p:spPr>
          <a:xfrm>
            <a:off x="4976640" y="3903840"/>
            <a:ext cx="196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Vacation</a:t>
            </a:r>
            <a:endParaRPr b="0" lang="en-US" sz="1000" spc="-1" strike="noStrike">
              <a:solidFill>
                <a:srgbClr val="000000"/>
              </a:solidFill>
              <a:latin typeface="Calibri"/>
            </a:endParaRPr>
          </a:p>
        </p:txBody>
      </p:sp>
      <p:sp>
        <p:nvSpPr>
          <p:cNvPr id="363" name="TextBox 31"/>
          <p:cNvSpPr/>
          <p:nvPr/>
        </p:nvSpPr>
        <p:spPr>
          <a:xfrm>
            <a:off x="4984920" y="4152960"/>
            <a:ext cx="2082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You are eligible for vacation after you have been paid for 1000 hours.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days allowed per year depends upon your total hours worked at the compan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20"/>
          <p:cNvSpPr/>
          <p:nvPr/>
        </p:nvSpPr>
        <p:spPr>
          <a:xfrm flipH="1" flipV="1" rot="19246800">
            <a:off x="4283640" y="4145760"/>
            <a:ext cx="379440" cy="178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18"/>
          <p:cNvSpPr/>
          <p:nvPr/>
        </p:nvSpPr>
        <p:spPr>
          <a:xfrm flipH="1" rot="2353200">
            <a:off x="84960" y="4130640"/>
            <a:ext cx="379440" cy="177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16"/>
          <p:cNvSpPr/>
          <p:nvPr/>
        </p:nvSpPr>
        <p:spPr>
          <a:xfrm flipH="1" rot="2070600">
            <a:off x="4265280" y="1333440"/>
            <a:ext cx="377280" cy="17928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14"/>
          <p:cNvSpPr/>
          <p:nvPr/>
        </p:nvSpPr>
        <p:spPr>
          <a:xfrm rot="19246800">
            <a:off x="70920" y="1333080"/>
            <a:ext cx="379440" cy="179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7" name="Picture"/>
          <p:cNvGrpSpPr/>
          <p:nvPr/>
        </p:nvGrpSpPr>
        <p:grpSpPr>
          <a:xfrm>
            <a:off x="190440" y="1333440"/>
            <a:ext cx="4359240" cy="2984400"/>
            <a:chOff x="190440" y="1333440"/>
            <a:chExt cx="4359240" cy="2984400"/>
          </a:xfrm>
        </p:grpSpPr>
        <p:sp>
          <p:nvSpPr>
            <p:cNvPr id="158" name="Border"/>
            <p:cNvSpPr/>
            <p:nvPr/>
          </p:nvSpPr>
          <p:spPr>
            <a:xfrm>
              <a:off x="190440" y="1333440"/>
              <a:ext cx="4359240" cy="298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Image" descr=""/>
            <p:cNvPicPr/>
            <p:nvPr/>
          </p:nvPicPr>
          <p:blipFill>
            <a:blip r:embed="rId2"/>
            <a:stretch/>
          </p:blipFill>
          <p:spPr>
            <a:xfrm>
              <a:off x="278640" y="1456200"/>
              <a:ext cx="4180320" cy="2711160"/>
            </a:xfrm>
            <a:prstGeom prst="rect">
              <a:avLst/>
            </a:prstGeom>
            <a:ln w="0">
              <a:noFill/>
            </a:ln>
          </p:spPr>
        </p:pic>
      </p:grpSp>
      <p:grpSp>
        <p:nvGrpSpPr>
          <p:cNvPr id="160" name="Content"/>
          <p:cNvGrpSpPr/>
          <p:nvPr/>
        </p:nvGrpSpPr>
        <p:grpSpPr>
          <a:xfrm>
            <a:off x="4829040" y="2247840"/>
            <a:ext cx="2514600" cy="2170080"/>
            <a:chOff x="4829040" y="2247840"/>
            <a:chExt cx="2514600" cy="2170080"/>
          </a:xfrm>
        </p:grpSpPr>
        <p:sp>
          <p:nvSpPr>
            <p:cNvPr id="161" name="Paper"/>
            <p:cNvSpPr/>
            <p:nvPr/>
          </p:nvSpPr>
          <p:spPr>
            <a:xfrm>
              <a:off x="4829040" y="2247840"/>
              <a:ext cx="2514600" cy="217008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Text"/>
            <p:cNvSpPr/>
            <p:nvPr/>
          </p:nvSpPr>
          <p:spPr>
            <a:xfrm rot="21405000">
              <a:off x="5067360" y="2408040"/>
              <a:ext cx="2053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dobe Ming Std L"/>
                </a:rPr>
                <a:t>To continually develop the finest file management software for file collaboration, shared access and website management.</a:t>
              </a:r>
              <a:endParaRPr b="0" lang="en-US" sz="1400" spc="-1" strike="noStrike">
                <a:solidFill>
                  <a:srgbClr val="000000"/>
                </a:solidFill>
                <a:latin typeface="Calibri"/>
              </a:endParaRPr>
            </a:p>
          </p:txBody>
        </p:sp>
      </p:grpSp>
      <p:sp>
        <p:nvSpPr>
          <p:cNvPr id="163" name="Content Top"/>
          <p:cNvSpPr/>
          <p:nvPr/>
        </p:nvSpPr>
        <p:spPr>
          <a:xfrm rot="2115600">
            <a:off x="6881400" y="2238120"/>
            <a:ext cx="57168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Content bottom"/>
          <p:cNvSpPr/>
          <p:nvPr/>
        </p:nvSpPr>
        <p:spPr>
          <a:xfrm rot="2115600">
            <a:off x="4721040" y="4206960"/>
            <a:ext cx="5713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6" descr=""/>
          <p:cNvPicPr/>
          <p:nvPr/>
        </p:nvPicPr>
        <p:blipFill>
          <a:blip r:embed="rId3"/>
          <a:stretch/>
        </p:blipFill>
        <p:spPr>
          <a:xfrm>
            <a:off x="4703760" y="1065240"/>
            <a:ext cx="2206800" cy="1157400"/>
          </a:xfrm>
          <a:prstGeom prst="rect">
            <a:avLst/>
          </a:prstGeom>
          <a:ln w="0">
            <a:noFill/>
          </a:ln>
        </p:spPr>
      </p:pic>
      <p:sp>
        <p:nvSpPr>
          <p:cNvPr id="166" name="Title Tape"/>
          <p:cNvSpPr/>
          <p:nvPr/>
        </p:nvSpPr>
        <p:spPr>
          <a:xfrm rot="20979600">
            <a:off x="5516640" y="108252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Isosceles Triangle 15"/>
          <p:cNvSpPr/>
          <p:nvPr/>
        </p:nvSpPr>
        <p:spPr>
          <a:xfrm rot="19147200">
            <a:off x="-47160" y="11966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Isosceles Triangle 17"/>
          <p:cNvSpPr/>
          <p:nvPr/>
        </p:nvSpPr>
        <p:spPr>
          <a:xfrm flipH="1" rot="2170200">
            <a:off x="4366440" y="1184040"/>
            <a:ext cx="37944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Isosceles Triangle 19"/>
          <p:cNvSpPr/>
          <p:nvPr/>
        </p:nvSpPr>
        <p:spPr>
          <a:xfrm flipV="1" rot="2452800">
            <a:off x="-33120" y="42620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Isosceles Triangle 21"/>
          <p:cNvSpPr/>
          <p:nvPr/>
        </p:nvSpPr>
        <p:spPr>
          <a:xfrm flipH="1" flipV="1" rot="19147200">
            <a:off x="4402080" y="42710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TextBox 26"/>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it-IT" sz="1000" spc="-1" strike="noStrike" u="sng">
                <a:solidFill>
                  <a:srgbClr val="303e4b"/>
                </a:solidFill>
                <a:uFillTx/>
                <a:latin typeface="Verdana"/>
                <a:ea typeface="Adobe Ming Std L"/>
                <a:hlinkClick r:id="rId4"/>
              </a:rPr>
              <a:t>http://www.flickr.com/photos/x-ray_delta_one/4441876297</a:t>
            </a:r>
            <a:r>
              <a:rPr b="0" lang="it-IT" sz="1000" spc="-1" strike="noStrike">
                <a:solidFill>
                  <a:srgbClr val="d93240"/>
                </a:solidFill>
                <a:latin typeface="Verdana"/>
                <a:ea typeface="Adobe Ming Std L"/>
              </a:rPr>
              <a:t> </a:t>
            </a:r>
            <a:r>
              <a:rPr b="0" lang="en-US" sz="1000" spc="-1" strike="noStrike">
                <a:solidFill>
                  <a:srgbClr val="d93240"/>
                </a:solidFill>
                <a:latin typeface="Verdana"/>
                <a:ea typeface="Adobe Ming Std L"/>
              </a:rPr>
              <a:t>via </a:t>
            </a:r>
            <a:r>
              <a:rPr b="0" lang="en-US" sz="1000" spc="-1" strike="noStrike" u="sng">
                <a:solidFill>
                  <a:srgbClr val="303e4b"/>
                </a:solidFill>
                <a:uFillTx/>
                <a:latin typeface="Verdana"/>
                <a:ea typeface="Adobe Ming Std L"/>
                <a:hlinkClick r:id="rId5"/>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4"/>
          <p:cNvGrpSpPr/>
          <p:nvPr/>
        </p:nvGrpSpPr>
        <p:grpSpPr>
          <a:xfrm>
            <a:off x="254520" y="444600"/>
            <a:ext cx="3050280" cy="5041080"/>
            <a:chOff x="254520" y="444600"/>
            <a:chExt cx="3050280" cy="5041080"/>
          </a:xfrm>
        </p:grpSpPr>
        <p:sp>
          <p:nvSpPr>
            <p:cNvPr id="173" name="Rectangle 5"/>
            <p:cNvSpPr/>
            <p:nvPr/>
          </p:nvSpPr>
          <p:spPr>
            <a:xfrm flipH="1" flipV="1" rot="3046800">
              <a:off x="253800" y="5193360"/>
              <a:ext cx="37872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6"/>
            <p:cNvSpPr/>
            <p:nvPr/>
          </p:nvSpPr>
          <p:spPr>
            <a:xfrm flipH="1" rot="7753200">
              <a:off x="253440" y="55836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7"/>
            <p:cNvSpPr/>
            <p:nvPr/>
          </p:nvSpPr>
          <p:spPr>
            <a:xfrm flipH="1" rot="7870800">
              <a:off x="2907000" y="5182920"/>
              <a:ext cx="37872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8"/>
            <p:cNvSpPr/>
            <p:nvPr/>
          </p:nvSpPr>
          <p:spPr>
            <a:xfrm rot="3046800">
              <a:off x="2926440" y="55908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Picture 11" descr=""/>
          <p:cNvPicPr/>
          <p:nvPr/>
        </p:nvPicPr>
        <p:blipFill>
          <a:blip r:embed="rId1"/>
          <a:stretch/>
        </p:blipFill>
        <p:spPr>
          <a:xfrm>
            <a:off x="3421080" y="190440"/>
            <a:ext cx="3413160" cy="1225440"/>
          </a:xfrm>
          <a:prstGeom prst="rect">
            <a:avLst/>
          </a:prstGeom>
          <a:ln w="0">
            <a:noFill/>
          </a:ln>
        </p:spPr>
      </p:pic>
      <p:sp>
        <p:nvSpPr>
          <p:cNvPr id="178" name="Title Tape"/>
          <p:cNvSpPr/>
          <p:nvPr/>
        </p:nvSpPr>
        <p:spPr>
          <a:xfrm rot="21034800">
            <a:off x="4680000" y="26640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 name="Group 1"/>
          <p:cNvGrpSpPr/>
          <p:nvPr/>
        </p:nvGrpSpPr>
        <p:grpSpPr>
          <a:xfrm>
            <a:off x="349200" y="554040"/>
            <a:ext cx="2828880" cy="4805280"/>
            <a:chOff x="349200" y="554040"/>
            <a:chExt cx="2828880" cy="4805280"/>
          </a:xfrm>
        </p:grpSpPr>
        <p:sp>
          <p:nvSpPr>
            <p:cNvPr id="180" name="Border"/>
            <p:cNvSpPr/>
            <p:nvPr/>
          </p:nvSpPr>
          <p:spPr>
            <a:xfrm rot="10800000">
              <a:off x="349200" y="554040"/>
              <a:ext cx="2828880" cy="4805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1" name="Picture 27" descr=""/>
            <p:cNvPicPr/>
            <p:nvPr/>
          </p:nvPicPr>
          <p:blipFill>
            <a:blip r:embed="rId2"/>
            <a:stretch/>
          </p:blipFill>
          <p:spPr>
            <a:xfrm>
              <a:off x="474480" y="679680"/>
              <a:ext cx="2575080" cy="4573080"/>
            </a:xfrm>
            <a:prstGeom prst="rect">
              <a:avLst/>
            </a:prstGeom>
            <a:ln w="0">
              <a:noFill/>
            </a:ln>
          </p:spPr>
        </p:pic>
      </p:grpSp>
      <p:grpSp>
        <p:nvGrpSpPr>
          <p:cNvPr id="182" name="Group 9"/>
          <p:cNvGrpSpPr/>
          <p:nvPr/>
        </p:nvGrpSpPr>
        <p:grpSpPr>
          <a:xfrm>
            <a:off x="102960" y="324720"/>
            <a:ext cx="3348360" cy="5284080"/>
            <a:chOff x="102960" y="324720"/>
            <a:chExt cx="3348360" cy="5284080"/>
          </a:xfrm>
        </p:grpSpPr>
        <p:sp>
          <p:nvSpPr>
            <p:cNvPr id="183" name="Isosceles Triangle 23"/>
            <p:cNvSpPr/>
            <p:nvPr/>
          </p:nvSpPr>
          <p:spPr>
            <a:xfrm rot="2947200">
              <a:off x="3065400" y="43524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Isosceles Triangle 24"/>
            <p:cNvSpPr/>
            <p:nvPr/>
          </p:nvSpPr>
          <p:spPr>
            <a:xfrm flipH="1" rot="7949400">
              <a:off x="3035520" y="529452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Isosceles Triangle 25"/>
            <p:cNvSpPr/>
            <p:nvPr/>
          </p:nvSpPr>
          <p:spPr>
            <a:xfrm flipV="1" rot="7852800">
              <a:off x="114120" y="4341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Isosceles Triangle 26"/>
            <p:cNvSpPr/>
            <p:nvPr/>
          </p:nvSpPr>
          <p:spPr>
            <a:xfrm flipH="1" flipV="1" rot="2947200">
              <a:off x="109800" y="53067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Group 2"/>
          <p:cNvGrpSpPr/>
          <p:nvPr/>
        </p:nvGrpSpPr>
        <p:grpSpPr>
          <a:xfrm>
            <a:off x="3559320" y="1382760"/>
            <a:ext cx="3305160" cy="3951360"/>
            <a:chOff x="3559320" y="1382760"/>
            <a:chExt cx="3305160" cy="3951360"/>
          </a:xfrm>
        </p:grpSpPr>
        <p:grpSp>
          <p:nvGrpSpPr>
            <p:cNvPr id="188" name="Content"/>
            <p:cNvGrpSpPr/>
            <p:nvPr/>
          </p:nvGrpSpPr>
          <p:grpSpPr>
            <a:xfrm>
              <a:off x="3559320" y="1382760"/>
              <a:ext cx="3305160" cy="3951360"/>
              <a:chOff x="3559320" y="1382760"/>
              <a:chExt cx="3305160" cy="3951360"/>
            </a:xfrm>
          </p:grpSpPr>
          <p:sp>
            <p:nvSpPr>
              <p:cNvPr id="189" name="Paper"/>
              <p:cNvSpPr/>
              <p:nvPr/>
            </p:nvSpPr>
            <p:spPr>
              <a:xfrm>
                <a:off x="3559320" y="1382760"/>
                <a:ext cx="3305160" cy="395136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
              <p:cNvSpPr/>
              <p:nvPr/>
            </p:nvSpPr>
            <p:spPr>
              <a:xfrm>
                <a:off x="3760200" y="15440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Alcohol</a:t>
                </a:r>
                <a:endParaRPr b="0" lang="en-US" sz="1200" spc="-1" strike="noStrike">
                  <a:solidFill>
                    <a:srgbClr val="000000"/>
                  </a:solidFill>
                  <a:latin typeface="Calibri"/>
                </a:endParaRPr>
              </a:p>
            </p:txBody>
          </p:sp>
        </p:grpSp>
        <p:sp>
          <p:nvSpPr>
            <p:cNvPr id="191" name="TextBox 28"/>
            <p:cNvSpPr/>
            <p:nvPr/>
          </p:nvSpPr>
          <p:spPr>
            <a:xfrm>
              <a:off x="3769200" y="186732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t permitted on company proper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 name="Text"/>
            <p:cNvSpPr/>
            <p:nvPr/>
          </p:nvSpPr>
          <p:spPr>
            <a:xfrm>
              <a:off x="3760200" y="32432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Drugs</a:t>
              </a:r>
              <a:endParaRPr b="0" lang="en-US" sz="1200" spc="-1" strike="noStrike">
                <a:solidFill>
                  <a:srgbClr val="000000"/>
                </a:solidFill>
                <a:latin typeface="Calibri"/>
              </a:endParaRPr>
            </a:p>
          </p:txBody>
        </p:sp>
        <p:sp>
          <p:nvSpPr>
            <p:cNvPr id="193" name="TextBox 30"/>
            <p:cNvSpPr/>
            <p:nvPr/>
          </p:nvSpPr>
          <p:spPr>
            <a:xfrm>
              <a:off x="3769200" y="356616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 employee may use or possess contraband drugs on the job or work under the influence of any such drug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Selling, transporting, or distributing drugs on company property will lead to termination and the authorities will be contacted.</a:t>
              </a:r>
              <a:endParaRPr b="0" lang="en-US" sz="1000" spc="-1" strike="noStrike">
                <a:solidFill>
                  <a:srgbClr val="000000"/>
                </a:solidFill>
                <a:latin typeface="Calibri"/>
              </a:endParaRPr>
            </a:p>
          </p:txBody>
        </p:sp>
      </p:grpSp>
      <p:grpSp>
        <p:nvGrpSpPr>
          <p:cNvPr id="194" name="Group 3"/>
          <p:cNvGrpSpPr/>
          <p:nvPr/>
        </p:nvGrpSpPr>
        <p:grpSpPr>
          <a:xfrm>
            <a:off x="3396960" y="1198440"/>
            <a:ext cx="3710160" cy="4326120"/>
            <a:chOff x="3396960" y="1198440"/>
            <a:chExt cx="3710160" cy="4326120"/>
          </a:xfrm>
        </p:grpSpPr>
        <p:sp>
          <p:nvSpPr>
            <p:cNvPr id="195" name="Content Top"/>
            <p:cNvSpPr/>
            <p:nvPr/>
          </p:nvSpPr>
          <p:spPr>
            <a:xfrm rot="2115600">
              <a:off x="6517440" y="1341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Content bottom"/>
            <p:cNvSpPr/>
            <p:nvPr/>
          </p:nvSpPr>
          <p:spPr>
            <a:xfrm rot="2115600">
              <a:off x="3414240" y="5139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31"/>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dancentury/3023768146</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
          <p:cNvGrpSpPr/>
          <p:nvPr/>
        </p:nvGrpSpPr>
        <p:grpSpPr>
          <a:xfrm>
            <a:off x="317880" y="493560"/>
            <a:ext cx="3470400" cy="4839120"/>
            <a:chOff x="317880" y="493560"/>
            <a:chExt cx="3470400" cy="4839120"/>
          </a:xfrm>
        </p:grpSpPr>
        <p:sp>
          <p:nvSpPr>
            <p:cNvPr id="199" name="Rectangle 7"/>
            <p:cNvSpPr/>
            <p:nvPr/>
          </p:nvSpPr>
          <p:spPr>
            <a:xfrm flipH="1" flipV="1" rot="19246800">
              <a:off x="3394800" y="50544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8"/>
            <p:cNvSpPr/>
            <p:nvPr/>
          </p:nvSpPr>
          <p:spPr>
            <a:xfrm flipH="1" rot="2353200">
              <a:off x="330840" y="504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9"/>
            <p:cNvSpPr/>
            <p:nvPr/>
          </p:nvSpPr>
          <p:spPr>
            <a:xfrm flipH="1" rot="2470800">
              <a:off x="3385440" y="6152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ectangle 10"/>
            <p:cNvSpPr/>
            <p:nvPr/>
          </p:nvSpPr>
          <p:spPr>
            <a:xfrm rot="19246800">
              <a:off x="331920" y="59328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3" name="Group 3"/>
          <p:cNvGrpSpPr/>
          <p:nvPr/>
        </p:nvGrpSpPr>
        <p:grpSpPr>
          <a:xfrm>
            <a:off x="380520" y="555480"/>
            <a:ext cx="3319560" cy="4714920"/>
            <a:chOff x="380520" y="555480"/>
            <a:chExt cx="3319560" cy="4714920"/>
          </a:xfrm>
        </p:grpSpPr>
        <p:sp>
          <p:nvSpPr>
            <p:cNvPr id="204" name="Border"/>
            <p:cNvSpPr/>
            <p:nvPr/>
          </p:nvSpPr>
          <p:spPr>
            <a:xfrm rot="5400000">
              <a:off x="-317160" y="1252800"/>
              <a:ext cx="4714920" cy="3319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5" name="Picture 5" descr=""/>
            <p:cNvPicPr/>
            <p:nvPr/>
          </p:nvPicPr>
          <p:blipFill>
            <a:blip r:embed="rId1"/>
            <a:stretch/>
          </p:blipFill>
          <p:spPr>
            <a:xfrm>
              <a:off x="538200" y="755280"/>
              <a:ext cx="2988000" cy="4372200"/>
            </a:xfrm>
            <a:prstGeom prst="rect">
              <a:avLst/>
            </a:prstGeom>
            <a:ln w="0">
              <a:noFill/>
            </a:ln>
          </p:spPr>
        </p:pic>
      </p:grpSp>
      <p:sp>
        <p:nvSpPr>
          <p:cNvPr id="206" name="Isosceles Triangle 12"/>
          <p:cNvSpPr/>
          <p:nvPr/>
        </p:nvSpPr>
        <p:spPr>
          <a:xfrm rot="19147200">
            <a:off x="216000" y="452160"/>
            <a:ext cx="3776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Isosceles Triangle 13"/>
          <p:cNvSpPr/>
          <p:nvPr/>
        </p:nvSpPr>
        <p:spPr>
          <a:xfrm flipH="1" rot="2549400">
            <a:off x="3513240" y="46800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Isosceles Triangle 14"/>
          <p:cNvSpPr/>
          <p:nvPr/>
        </p:nvSpPr>
        <p:spPr>
          <a:xfrm flipV="1" rot="2452800">
            <a:off x="208080" y="5178960"/>
            <a:ext cx="3776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Isosceles Triangle 15"/>
          <p:cNvSpPr/>
          <p:nvPr/>
        </p:nvSpPr>
        <p:spPr>
          <a:xfrm flipH="1" flipV="1" rot="19147200">
            <a:off x="3510720" y="5179680"/>
            <a:ext cx="3794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
          <p:cNvPicPr/>
          <p:nvPr/>
        </p:nvPicPr>
        <p:blipFill>
          <a:blip r:embed="rId2"/>
          <a:stretch/>
        </p:blipFill>
        <p:spPr>
          <a:xfrm>
            <a:off x="3827520" y="390600"/>
            <a:ext cx="3657600" cy="1152360"/>
          </a:xfrm>
          <a:prstGeom prst="rect">
            <a:avLst/>
          </a:prstGeom>
          <a:ln w="0">
            <a:noFill/>
          </a:ln>
        </p:spPr>
      </p:pic>
      <p:sp>
        <p:nvSpPr>
          <p:cNvPr id="211" name="Title Tape"/>
          <p:cNvSpPr/>
          <p:nvPr/>
        </p:nvSpPr>
        <p:spPr>
          <a:xfrm rot="21364800">
            <a:off x="5183280" y="43452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20"/>
          <p:cNvGrpSpPr/>
          <p:nvPr/>
        </p:nvGrpSpPr>
        <p:grpSpPr>
          <a:xfrm>
            <a:off x="4049640" y="1587600"/>
            <a:ext cx="3375000" cy="3498840"/>
            <a:chOff x="4049640" y="1587600"/>
            <a:chExt cx="3375000" cy="3498840"/>
          </a:xfrm>
        </p:grpSpPr>
        <p:sp>
          <p:nvSpPr>
            <p:cNvPr id="213" name="Paper"/>
            <p:cNvSpPr/>
            <p:nvPr/>
          </p:nvSpPr>
          <p:spPr>
            <a:xfrm>
              <a:off x="4049640" y="1587600"/>
              <a:ext cx="3375000" cy="34988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TextBox 22"/>
            <p:cNvSpPr/>
            <p:nvPr/>
          </p:nvSpPr>
          <p:spPr>
            <a:xfrm>
              <a:off x="4328640" y="1821600"/>
              <a:ext cx="2734920" cy="277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Communications sent by </a:t>
              </a:r>
              <a:br>
                <a:rPr sz="1100"/>
              </a:br>
              <a:r>
                <a:rPr b="0" lang="en-US" sz="1100" spc="-1" strike="noStrike">
                  <a:solidFill>
                    <a:srgbClr val="000000"/>
                  </a:solidFill>
                  <a:latin typeface="Verdana"/>
                  <a:ea typeface="Adobe Ming Std L"/>
                </a:rPr>
                <a:t>e-mail, and on the Internet, should not be considered private or personal message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You are responsible for using electronic communications facilities in a manner that is productive, professional, polite, and cost-effectiv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A violation of Super Simplistic Solutions, Inc’s policy governing use of the electronic communications facilities may subject you to disciplinary action up to and including termination.</a:t>
              </a:r>
              <a:endParaRPr b="0" lang="en-US" sz="1100" spc="-1" strike="noStrike">
                <a:solidFill>
                  <a:srgbClr val="000000"/>
                </a:solidFill>
                <a:latin typeface="Calibri"/>
              </a:endParaRPr>
            </a:p>
          </p:txBody>
        </p:sp>
      </p:grpSp>
      <p:grpSp>
        <p:nvGrpSpPr>
          <p:cNvPr id="215" name="Group 27"/>
          <p:cNvGrpSpPr/>
          <p:nvPr/>
        </p:nvGrpSpPr>
        <p:grpSpPr>
          <a:xfrm>
            <a:off x="3922560" y="1439640"/>
            <a:ext cx="3657600" cy="3851640"/>
            <a:chOff x="3922560" y="1439640"/>
            <a:chExt cx="3657600" cy="3851640"/>
          </a:xfrm>
        </p:grpSpPr>
        <p:sp>
          <p:nvSpPr>
            <p:cNvPr id="216" name="Content Top"/>
            <p:cNvSpPr/>
            <p:nvPr/>
          </p:nvSpPr>
          <p:spPr>
            <a:xfrm rot="2115600">
              <a:off x="6990480" y="15822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Content bottom"/>
            <p:cNvSpPr/>
            <p:nvPr/>
          </p:nvSpPr>
          <p:spPr>
            <a:xfrm rot="2115600">
              <a:off x="3939840" y="49057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30"/>
          <p:cNvSpPr/>
          <p:nvPr/>
        </p:nvSpPr>
        <p:spPr>
          <a:xfrm>
            <a:off x="-453960" y="5504040"/>
            <a:ext cx="8534160" cy="24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93240"/>
                </a:solidFill>
                <a:latin typeface="Verdana"/>
                <a:ea typeface="Adobe Ming Std L"/>
              </a:rPr>
              <a:t>photo credit: </a:t>
            </a:r>
            <a:r>
              <a:rPr b="0" lang="en-US" sz="900" spc="-1" strike="noStrike" u="sng">
                <a:solidFill>
                  <a:srgbClr val="303e4b"/>
                </a:solidFill>
                <a:uFillTx/>
                <a:latin typeface="Verdana"/>
                <a:ea typeface="Adobe Ming Std L"/>
                <a:hlinkClick r:id="rId3"/>
              </a:rPr>
              <a:t>http://www.flickr.com/photos/annabelfarleyphotography/5211944207</a:t>
            </a:r>
            <a:r>
              <a:rPr b="0" lang="en-US" sz="900" spc="-1" strike="noStrike">
                <a:solidFill>
                  <a:srgbClr val="d93240"/>
                </a:solidFill>
                <a:latin typeface="Verdana"/>
                <a:ea typeface="Adobe Ming Std L"/>
              </a:rPr>
              <a:t> via </a:t>
            </a:r>
            <a:r>
              <a:rPr b="0" lang="en-US" sz="900" spc="-1" strike="noStrike" u="sng">
                <a:solidFill>
                  <a:srgbClr val="303e4b"/>
                </a:solidFill>
                <a:uFillTx/>
                <a:latin typeface="Verdana"/>
                <a:ea typeface="Adobe Ming Std L"/>
                <a:hlinkClick r:id="rId4"/>
              </a:rPr>
              <a:t>http://photopin.com</a:t>
            </a:r>
            <a:r>
              <a:rPr b="0" lang="en-US" sz="900" spc="-1" strike="noStrike">
                <a:solidFill>
                  <a:srgbClr val="d93240"/>
                </a:solidFill>
                <a:latin typeface="Verdana"/>
                <a:ea typeface="Adobe Ming Std L"/>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17"/>
          <p:cNvGrpSpPr/>
          <p:nvPr/>
        </p:nvGrpSpPr>
        <p:grpSpPr>
          <a:xfrm>
            <a:off x="268920" y="1868040"/>
            <a:ext cx="3886200" cy="3039120"/>
            <a:chOff x="268920" y="1868040"/>
            <a:chExt cx="3886200" cy="3039120"/>
          </a:xfrm>
        </p:grpSpPr>
        <p:sp>
          <p:nvSpPr>
            <p:cNvPr id="220" name="Rectangle 18"/>
            <p:cNvSpPr/>
            <p:nvPr/>
          </p:nvSpPr>
          <p:spPr>
            <a:xfrm flipH="1" flipV="1" rot="19246800">
              <a:off x="3761640" y="462888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19"/>
            <p:cNvSpPr/>
            <p:nvPr/>
          </p:nvSpPr>
          <p:spPr>
            <a:xfrm flipH="1" rot="2353200">
              <a:off x="299880" y="4606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20"/>
            <p:cNvSpPr/>
            <p:nvPr/>
          </p:nvSpPr>
          <p:spPr>
            <a:xfrm flipH="1" rot="2470800">
              <a:off x="3732120" y="19706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Rectangle 21"/>
            <p:cNvSpPr/>
            <p:nvPr/>
          </p:nvSpPr>
          <p:spPr>
            <a:xfrm rot="19246800">
              <a:off x="282600" y="19695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4" name="Picture 1" descr=""/>
          <p:cNvPicPr/>
          <p:nvPr/>
        </p:nvPicPr>
        <p:blipFill>
          <a:blip r:embed="rId1"/>
          <a:stretch/>
        </p:blipFill>
        <p:spPr>
          <a:xfrm>
            <a:off x="907920" y="419040"/>
            <a:ext cx="3402000" cy="1219320"/>
          </a:xfrm>
          <a:prstGeom prst="rect">
            <a:avLst/>
          </a:prstGeom>
          <a:ln w="0">
            <a:noFill/>
          </a:ln>
        </p:spPr>
      </p:pic>
      <p:sp>
        <p:nvSpPr>
          <p:cNvPr id="225"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6" name="Group 26"/>
          <p:cNvGrpSpPr/>
          <p:nvPr/>
        </p:nvGrpSpPr>
        <p:grpSpPr>
          <a:xfrm>
            <a:off x="345600" y="1909800"/>
            <a:ext cx="3721320" cy="2921040"/>
            <a:chOff x="345600" y="1909800"/>
            <a:chExt cx="3721320" cy="2921040"/>
          </a:xfrm>
        </p:grpSpPr>
        <p:sp>
          <p:nvSpPr>
            <p:cNvPr id="227" name="Border"/>
            <p:cNvSpPr/>
            <p:nvPr/>
          </p:nvSpPr>
          <p:spPr>
            <a:xfrm rot="5400000">
              <a:off x="745560" y="1509480"/>
              <a:ext cx="2921040" cy="3721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8" name="Picture 28" descr=""/>
            <p:cNvPicPr/>
            <p:nvPr/>
          </p:nvPicPr>
          <p:blipFill>
            <a:blip r:embed="rId2"/>
            <a:srcRect l="1298" t="2339" r="1871" b="1216"/>
            <a:stretch/>
          </p:blipFill>
          <p:spPr>
            <a:xfrm>
              <a:off x="482040" y="2078640"/>
              <a:ext cx="3462480" cy="2595600"/>
            </a:xfrm>
            <a:prstGeom prst="rect">
              <a:avLst/>
            </a:prstGeom>
            <a:ln w="0">
              <a:noFill/>
            </a:ln>
          </p:spPr>
        </p:pic>
      </p:grpSp>
      <p:grpSp>
        <p:nvGrpSpPr>
          <p:cNvPr id="229" name="Group 29"/>
          <p:cNvGrpSpPr/>
          <p:nvPr/>
        </p:nvGrpSpPr>
        <p:grpSpPr>
          <a:xfrm>
            <a:off x="148680" y="1713600"/>
            <a:ext cx="4133520" cy="3333600"/>
            <a:chOff x="148680" y="1713600"/>
            <a:chExt cx="4133520" cy="3333600"/>
          </a:xfrm>
        </p:grpSpPr>
        <p:sp>
          <p:nvSpPr>
            <p:cNvPr id="230" name="Isosceles Triangle 30"/>
            <p:cNvSpPr/>
            <p:nvPr/>
          </p:nvSpPr>
          <p:spPr>
            <a:xfrm rot="19147200">
              <a:off x="165240" y="18140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Isosceles Triangle 31"/>
            <p:cNvSpPr/>
            <p:nvPr/>
          </p:nvSpPr>
          <p:spPr>
            <a:xfrm flipH="1" rot="2549400">
              <a:off x="3864600" y="18327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Isosceles Triangle 32"/>
            <p:cNvSpPr/>
            <p:nvPr/>
          </p:nvSpPr>
          <p:spPr>
            <a:xfrm flipV="1" rot="2452800">
              <a:off x="177120" y="474048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Isosceles Triangle 33"/>
            <p:cNvSpPr/>
            <p:nvPr/>
          </p:nvSpPr>
          <p:spPr>
            <a:xfrm flipH="1" flipV="1" rot="19147200">
              <a:off x="3886920" y="475452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4" name="Group 34"/>
          <p:cNvGrpSpPr/>
          <p:nvPr/>
        </p:nvGrpSpPr>
        <p:grpSpPr>
          <a:xfrm>
            <a:off x="4635360" y="676440"/>
            <a:ext cx="2586240" cy="4578120"/>
            <a:chOff x="4635360" y="676440"/>
            <a:chExt cx="2586240" cy="4578120"/>
          </a:xfrm>
        </p:grpSpPr>
        <p:grpSp>
          <p:nvGrpSpPr>
            <p:cNvPr id="235" name="Content"/>
            <p:cNvGrpSpPr/>
            <p:nvPr/>
          </p:nvGrpSpPr>
          <p:grpSpPr>
            <a:xfrm>
              <a:off x="4635360" y="676440"/>
              <a:ext cx="2586240" cy="4578120"/>
              <a:chOff x="4635360" y="676440"/>
              <a:chExt cx="2586240" cy="4578120"/>
            </a:xfrm>
          </p:grpSpPr>
          <p:sp>
            <p:nvSpPr>
              <p:cNvPr id="236" name="Paper"/>
              <p:cNvSpPr/>
              <p:nvPr/>
            </p:nvSpPr>
            <p:spPr>
              <a:xfrm>
                <a:off x="4635360" y="676440"/>
                <a:ext cx="2570400" cy="457812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Text"/>
              <p:cNvSpPr/>
              <p:nvPr/>
            </p:nvSpPr>
            <p:spPr>
              <a:xfrm>
                <a:off x="4645440" y="864000"/>
                <a:ext cx="25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dobe Ming Std L"/>
                  </a:rPr>
                  <a:t>Time off without compensation</a:t>
                </a:r>
                <a:endParaRPr b="0" lang="en-US" sz="1400" spc="-1" strike="noStrike">
                  <a:solidFill>
                    <a:srgbClr val="000000"/>
                  </a:solidFill>
                  <a:latin typeface="Calibri"/>
                </a:endParaRPr>
              </a:p>
            </p:txBody>
          </p:sp>
        </p:grpSp>
        <p:sp>
          <p:nvSpPr>
            <p:cNvPr id="238" name="TextBox 36"/>
            <p:cNvSpPr/>
            <p:nvPr/>
          </p:nvSpPr>
          <p:spPr>
            <a:xfrm>
              <a:off x="4844520" y="1466280"/>
              <a:ext cx="208296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y request for leave of this type must be cleared in advanc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such leave your health/life coverage may be maintained for a period not to exceed 30 day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this time there be no additional accrual of sick or vacation leav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39" name="Group 41"/>
          <p:cNvGrpSpPr/>
          <p:nvPr/>
        </p:nvGrpSpPr>
        <p:grpSpPr>
          <a:xfrm>
            <a:off x="4493880" y="428760"/>
            <a:ext cx="2867040" cy="5073480"/>
            <a:chOff x="4493880" y="428760"/>
            <a:chExt cx="2867040" cy="5073480"/>
          </a:xfrm>
        </p:grpSpPr>
        <p:sp>
          <p:nvSpPr>
            <p:cNvPr id="240" name="Content Top"/>
            <p:cNvSpPr/>
            <p:nvPr/>
          </p:nvSpPr>
          <p:spPr>
            <a:xfrm rot="2115600">
              <a:off x="6771240" y="5713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ontent bottom"/>
            <p:cNvSpPr/>
            <p:nvPr/>
          </p:nvSpPr>
          <p:spPr>
            <a:xfrm rot="2115600">
              <a:off x="45111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44"/>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kheelcenter/5279192617</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Pic Holder Back"/>
          <p:cNvGrpSpPr/>
          <p:nvPr/>
        </p:nvGrpSpPr>
        <p:grpSpPr>
          <a:xfrm>
            <a:off x="513000" y="484560"/>
            <a:ext cx="3635640" cy="4778280"/>
            <a:chOff x="513000" y="484560"/>
            <a:chExt cx="3635640" cy="4778280"/>
          </a:xfrm>
        </p:grpSpPr>
        <p:sp>
          <p:nvSpPr>
            <p:cNvPr id="24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8" name="Picture"/>
          <p:cNvGrpSpPr/>
          <p:nvPr/>
        </p:nvGrpSpPr>
        <p:grpSpPr>
          <a:xfrm>
            <a:off x="635040" y="555480"/>
            <a:ext cx="3390840" cy="4588200"/>
            <a:chOff x="635040" y="555480"/>
            <a:chExt cx="3390840" cy="4588200"/>
          </a:xfrm>
        </p:grpSpPr>
        <p:sp>
          <p:nvSpPr>
            <p:cNvPr id="24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0" name="Image" descr=""/>
            <p:cNvPicPr/>
            <p:nvPr/>
          </p:nvPicPr>
          <p:blipFill>
            <a:blip r:embed="rId1"/>
            <a:stretch/>
          </p:blipFill>
          <p:spPr>
            <a:xfrm>
              <a:off x="733680" y="677160"/>
              <a:ext cx="3193200" cy="4318920"/>
            </a:xfrm>
            <a:prstGeom prst="rect">
              <a:avLst/>
            </a:prstGeom>
            <a:ln w="0">
              <a:noFill/>
            </a:ln>
          </p:spPr>
        </p:pic>
      </p:grpSp>
      <p:sp>
        <p:nvSpPr>
          <p:cNvPr id="251" name="Paper"/>
          <p:cNvSpPr/>
          <p:nvPr/>
        </p:nvSpPr>
        <p:spPr>
          <a:xfrm>
            <a:off x="4767120" y="2076480"/>
            <a:ext cx="2576520" cy="282420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2" name="Text"/>
          <p:cNvSpPr/>
          <p:nvPr/>
        </p:nvSpPr>
        <p:spPr>
          <a:xfrm rot="21405000">
            <a:off x="5012280" y="2404800"/>
            <a:ext cx="2104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No overtime may be worked without the approval of your direct supervisor.</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Overtime will be paid at the rate of time and one-half the regular rate of pay to all hourly employees for all hours worked in excess of 40 hours in a 1-week timeframe.</a:t>
            </a:r>
            <a:endParaRPr b="0" lang="en-US" sz="1100" spc="-1" strike="noStrike">
              <a:solidFill>
                <a:srgbClr val="000000"/>
              </a:solidFill>
              <a:latin typeface="Calibri"/>
            </a:endParaRPr>
          </a:p>
        </p:txBody>
      </p:sp>
      <p:sp>
        <p:nvSpPr>
          <p:cNvPr id="253" name="Content Top"/>
          <p:cNvSpPr/>
          <p:nvPr/>
        </p:nvSpPr>
        <p:spPr>
          <a:xfrm rot="2115600">
            <a:off x="6951600" y="201420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Content bottom"/>
          <p:cNvSpPr/>
          <p:nvPr/>
        </p:nvSpPr>
        <p:spPr>
          <a:xfrm rot="2115600">
            <a:off x="4615920" y="468900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5" name="Picture 1" descr=""/>
          <p:cNvPicPr/>
          <p:nvPr/>
        </p:nvPicPr>
        <p:blipFill>
          <a:blip r:embed="rId2"/>
          <a:stretch/>
        </p:blipFill>
        <p:spPr>
          <a:xfrm>
            <a:off x="4819680" y="885960"/>
            <a:ext cx="2079720" cy="1236600"/>
          </a:xfrm>
          <a:prstGeom prst="rect">
            <a:avLst/>
          </a:prstGeom>
          <a:ln w="0">
            <a:noFill/>
          </a:ln>
        </p:spPr>
      </p:pic>
      <p:sp>
        <p:nvSpPr>
          <p:cNvPr id="256" name="Title Tape"/>
          <p:cNvSpPr/>
          <p:nvPr/>
        </p:nvSpPr>
        <p:spPr>
          <a:xfrm rot="20979600">
            <a:off x="5511600" y="8964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Pic Holder Front"/>
          <p:cNvGrpSpPr/>
          <p:nvPr/>
        </p:nvGrpSpPr>
        <p:grpSpPr>
          <a:xfrm>
            <a:off x="396360" y="338400"/>
            <a:ext cx="3876120" cy="5066280"/>
            <a:chOff x="396360" y="338400"/>
            <a:chExt cx="3876120" cy="5066280"/>
          </a:xfrm>
        </p:grpSpPr>
        <p:sp>
          <p:nvSpPr>
            <p:cNvPr id="258"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2" name="TextBox 25"/>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a:t>
            </a:r>
            <a:r>
              <a:rPr b="0" lang="en-US" sz="1000" spc="-1" strike="noStrike" u="sng">
                <a:solidFill>
                  <a:srgbClr val="303e4b"/>
                </a:solidFill>
                <a:uFillTx/>
                <a:latin typeface="Verdana"/>
                <a:ea typeface="Verdana"/>
                <a:hlinkClick r:id="rId4"/>
              </a:rPr>
              <a:t>://</a:t>
            </a:r>
            <a:r>
              <a:rPr b="0" lang="en-US" sz="1000" spc="-1" strike="noStrike" u="sng">
                <a:solidFill>
                  <a:srgbClr val="303e4b"/>
                </a:solidFill>
                <a:uFillTx/>
                <a:latin typeface="Verdana"/>
                <a:ea typeface="Adobe Ming Std L"/>
                <a:hlinkClick r:id="rId5"/>
              </a:rPr>
              <a:t>www.flickr.com/photos/kheelcenter/5279879854</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Pic Holder Back"/>
          <p:cNvGrpSpPr/>
          <p:nvPr/>
        </p:nvGrpSpPr>
        <p:grpSpPr>
          <a:xfrm>
            <a:off x="513000" y="484560"/>
            <a:ext cx="3635640" cy="4778280"/>
            <a:chOff x="513000" y="484560"/>
            <a:chExt cx="3635640" cy="4778280"/>
          </a:xfrm>
        </p:grpSpPr>
        <p:sp>
          <p:nvSpPr>
            <p:cNvPr id="26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Picture"/>
          <p:cNvGrpSpPr/>
          <p:nvPr/>
        </p:nvGrpSpPr>
        <p:grpSpPr>
          <a:xfrm>
            <a:off x="635040" y="555480"/>
            <a:ext cx="3390840" cy="4588200"/>
            <a:chOff x="635040" y="555480"/>
            <a:chExt cx="3390840" cy="4588200"/>
          </a:xfrm>
        </p:grpSpPr>
        <p:sp>
          <p:nvSpPr>
            <p:cNvPr id="26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0" name="Image" descr=""/>
            <p:cNvPicPr/>
            <p:nvPr/>
          </p:nvPicPr>
          <p:blipFill>
            <a:blip r:embed="rId1"/>
            <a:stretch/>
          </p:blipFill>
          <p:spPr>
            <a:xfrm>
              <a:off x="762840" y="677160"/>
              <a:ext cx="3134520" cy="4318920"/>
            </a:xfrm>
            <a:prstGeom prst="rect">
              <a:avLst/>
            </a:prstGeom>
            <a:ln w="0">
              <a:noFill/>
            </a:ln>
          </p:spPr>
        </p:pic>
      </p:grpSp>
      <p:grpSp>
        <p:nvGrpSpPr>
          <p:cNvPr id="271" name="Content"/>
          <p:cNvGrpSpPr/>
          <p:nvPr/>
        </p:nvGrpSpPr>
        <p:grpSpPr>
          <a:xfrm>
            <a:off x="4675320" y="2192400"/>
            <a:ext cx="2577960" cy="2489040"/>
            <a:chOff x="4675320" y="2192400"/>
            <a:chExt cx="2577960" cy="2489040"/>
          </a:xfrm>
        </p:grpSpPr>
        <p:sp>
          <p:nvSpPr>
            <p:cNvPr id="272" name="Paper"/>
            <p:cNvSpPr/>
            <p:nvPr/>
          </p:nvSpPr>
          <p:spPr>
            <a:xfrm>
              <a:off x="4675320" y="2192400"/>
              <a:ext cx="2577960" cy="248904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Text"/>
            <p:cNvSpPr/>
            <p:nvPr/>
          </p:nvSpPr>
          <p:spPr>
            <a:xfrm rot="21405000">
              <a:off x="4922640" y="2395080"/>
              <a:ext cx="210492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work week is Monday through Sunda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Employees are paid biweekly on Wednesday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Checks are distributed after 2:00 p.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imesheets must be completed daily and turned  in to the supervisor every Monday morning. </a:t>
              </a:r>
              <a:endParaRPr b="0" lang="en-US" sz="1000" spc="-1" strike="noStrike">
                <a:solidFill>
                  <a:srgbClr val="000000"/>
                </a:solidFill>
                <a:latin typeface="Calibri"/>
              </a:endParaRPr>
            </a:p>
          </p:txBody>
        </p:sp>
      </p:grpSp>
      <p:sp>
        <p:nvSpPr>
          <p:cNvPr id="274" name="Content Top"/>
          <p:cNvSpPr/>
          <p:nvPr/>
        </p:nvSpPr>
        <p:spPr>
          <a:xfrm rot="2115600">
            <a:off x="6865920" y="2125440"/>
            <a:ext cx="5731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Content bottom"/>
          <p:cNvSpPr/>
          <p:nvPr/>
        </p:nvSpPr>
        <p:spPr>
          <a:xfrm rot="2115600">
            <a:off x="4529160" y="45032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6" name="Picture 1" descr=""/>
          <p:cNvPicPr/>
          <p:nvPr/>
        </p:nvPicPr>
        <p:blipFill>
          <a:blip r:embed="rId2"/>
          <a:stretch/>
        </p:blipFill>
        <p:spPr>
          <a:xfrm>
            <a:off x="4816440" y="896760"/>
            <a:ext cx="2077920" cy="1225800"/>
          </a:xfrm>
          <a:prstGeom prst="rect">
            <a:avLst/>
          </a:prstGeom>
          <a:ln w="0">
            <a:noFill/>
          </a:ln>
        </p:spPr>
      </p:pic>
      <p:sp>
        <p:nvSpPr>
          <p:cNvPr id="277" name="Title Tape"/>
          <p:cNvSpPr/>
          <p:nvPr/>
        </p:nvSpPr>
        <p:spPr>
          <a:xfrm rot="20979600">
            <a:off x="5516280" y="946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8" name="Pic Holder Front"/>
          <p:cNvGrpSpPr/>
          <p:nvPr/>
        </p:nvGrpSpPr>
        <p:grpSpPr>
          <a:xfrm>
            <a:off x="396360" y="338400"/>
            <a:ext cx="3876120" cy="5066280"/>
            <a:chOff x="396360" y="338400"/>
            <a:chExt cx="3876120" cy="5066280"/>
          </a:xfrm>
        </p:grpSpPr>
        <p:sp>
          <p:nvSpPr>
            <p:cNvPr id="279"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25"/>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kheelcenter/5279881110 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3"/>
          <p:cNvGrpSpPr/>
          <p:nvPr/>
        </p:nvGrpSpPr>
        <p:grpSpPr>
          <a:xfrm>
            <a:off x="517680" y="1519200"/>
            <a:ext cx="4172040" cy="3437280"/>
            <a:chOff x="517680" y="1519200"/>
            <a:chExt cx="4172040" cy="3437280"/>
          </a:xfrm>
        </p:grpSpPr>
        <p:sp>
          <p:nvSpPr>
            <p:cNvPr id="285" name="Rectangle 4"/>
            <p:cNvSpPr/>
            <p:nvPr/>
          </p:nvSpPr>
          <p:spPr>
            <a:xfrm flipH="1" flipV="1" rot="19246800">
              <a:off x="429444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5"/>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6"/>
            <p:cNvSpPr/>
            <p:nvPr/>
          </p:nvSpPr>
          <p:spPr>
            <a:xfrm flipH="1" rot="2470800">
              <a:off x="4298040" y="16333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7"/>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9" name="Group 8"/>
          <p:cNvGrpSpPr/>
          <p:nvPr/>
        </p:nvGrpSpPr>
        <p:grpSpPr>
          <a:xfrm>
            <a:off x="634680" y="1650960"/>
            <a:ext cx="3940200" cy="3175200"/>
            <a:chOff x="634680" y="1650960"/>
            <a:chExt cx="3940200" cy="3175200"/>
          </a:xfrm>
        </p:grpSpPr>
        <p:sp>
          <p:nvSpPr>
            <p:cNvPr id="290" name="Border"/>
            <p:cNvSpPr/>
            <p:nvPr/>
          </p:nvSpPr>
          <p:spPr>
            <a:xfrm rot="5400000">
              <a:off x="1017000" y="1268280"/>
              <a:ext cx="3175200" cy="3940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1" name="Picture 10" descr=""/>
            <p:cNvPicPr/>
            <p:nvPr/>
          </p:nvPicPr>
          <p:blipFill>
            <a:blip r:embed="rId1"/>
            <a:stretch/>
          </p:blipFill>
          <p:spPr>
            <a:xfrm>
              <a:off x="750600" y="1818360"/>
              <a:ext cx="3697200" cy="2824560"/>
            </a:xfrm>
            <a:prstGeom prst="rect">
              <a:avLst/>
            </a:prstGeom>
            <a:ln w="0">
              <a:noFill/>
            </a:ln>
          </p:spPr>
        </p:pic>
      </p:grpSp>
      <p:sp>
        <p:nvSpPr>
          <p:cNvPr id="292" name="Isosceles Triangle 11"/>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Isosceles Triangle 12"/>
          <p:cNvSpPr/>
          <p:nvPr/>
        </p:nvSpPr>
        <p:spPr>
          <a:xfrm flipH="1" rot="2549400">
            <a:off x="442224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Isosceles Triangle 13"/>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Isosceles Triangle 14"/>
          <p:cNvSpPr/>
          <p:nvPr/>
        </p:nvSpPr>
        <p:spPr>
          <a:xfrm flipH="1" flipV="1" rot="19147200">
            <a:off x="441252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6" name="Picture 2" descr=""/>
          <p:cNvPicPr/>
          <p:nvPr/>
        </p:nvPicPr>
        <p:blipFill>
          <a:blip r:embed="rId2"/>
          <a:stretch/>
        </p:blipFill>
        <p:spPr>
          <a:xfrm>
            <a:off x="1006560" y="431640"/>
            <a:ext cx="3400200" cy="1219320"/>
          </a:xfrm>
          <a:prstGeom prst="rect">
            <a:avLst/>
          </a:prstGeom>
          <a:ln w="0">
            <a:noFill/>
          </a:ln>
        </p:spPr>
      </p:pic>
      <p:sp>
        <p:nvSpPr>
          <p:cNvPr id="297"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aper"/>
          <p:cNvSpPr/>
          <p:nvPr/>
        </p:nvSpPr>
        <p:spPr>
          <a:xfrm>
            <a:off x="4826160" y="465120"/>
            <a:ext cx="2570040" cy="47894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99" name="Group 1"/>
          <p:cNvGrpSpPr/>
          <p:nvPr/>
        </p:nvGrpSpPr>
        <p:grpSpPr>
          <a:xfrm>
            <a:off x="4684680" y="253800"/>
            <a:ext cx="2867040" cy="5248440"/>
            <a:chOff x="4684680" y="253800"/>
            <a:chExt cx="2867040" cy="5248440"/>
          </a:xfrm>
        </p:grpSpPr>
        <p:sp>
          <p:nvSpPr>
            <p:cNvPr id="300" name="Content Top"/>
            <p:cNvSpPr/>
            <p:nvPr/>
          </p:nvSpPr>
          <p:spPr>
            <a:xfrm rot="2115600">
              <a:off x="6962040" y="3963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Content bottom"/>
            <p:cNvSpPr/>
            <p:nvPr/>
          </p:nvSpPr>
          <p:spPr>
            <a:xfrm rot="2115600">
              <a:off x="47019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79716443@N00/862429492</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grpSp>
        <p:nvGrpSpPr>
          <p:cNvPr id="303" name="Group 34"/>
          <p:cNvGrpSpPr/>
          <p:nvPr/>
        </p:nvGrpSpPr>
        <p:grpSpPr>
          <a:xfrm>
            <a:off x="4848120" y="657360"/>
            <a:ext cx="2640240" cy="4184640"/>
            <a:chOff x="4848120" y="657360"/>
            <a:chExt cx="2640240" cy="4184640"/>
          </a:xfrm>
        </p:grpSpPr>
        <p:sp>
          <p:nvSpPr>
            <p:cNvPr id="304" name="Text"/>
            <p:cNvSpPr/>
            <p:nvPr/>
          </p:nvSpPr>
          <p:spPr>
            <a:xfrm>
              <a:off x="4981680" y="657360"/>
              <a:ext cx="1128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401(k) Plan</a:t>
              </a:r>
              <a:endParaRPr b="0" lang="en-US" sz="1100" spc="-1" strike="noStrike">
                <a:solidFill>
                  <a:srgbClr val="000000"/>
                </a:solidFill>
                <a:latin typeface="Calibri"/>
              </a:endParaRPr>
            </a:p>
          </p:txBody>
        </p:sp>
        <p:sp>
          <p:nvSpPr>
            <p:cNvPr id="305" name="Text"/>
            <p:cNvSpPr/>
            <p:nvPr/>
          </p:nvSpPr>
          <p:spPr>
            <a:xfrm>
              <a:off x="4952880" y="2071080"/>
              <a:ext cx="2232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Workers Compensation Insurance</a:t>
              </a:r>
              <a:endParaRPr b="0" lang="en-US" sz="1100" spc="-1" strike="noStrike">
                <a:solidFill>
                  <a:srgbClr val="000000"/>
                </a:solidFill>
                <a:latin typeface="Calibri"/>
              </a:endParaRPr>
            </a:p>
          </p:txBody>
        </p:sp>
        <p:sp>
          <p:nvSpPr>
            <p:cNvPr id="306" name="TextBox 23"/>
            <p:cNvSpPr/>
            <p:nvPr/>
          </p:nvSpPr>
          <p:spPr>
            <a:xfrm>
              <a:off x="4899960" y="3529800"/>
              <a:ext cx="258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purpose of the Employee Assistance Program (EAP) is to help you resolve your problems </a:t>
              </a:r>
              <a:br>
                <a:rPr sz="1000"/>
              </a:br>
              <a:r>
                <a:rPr b="0" lang="en-US" sz="1000" spc="-1" strike="noStrike">
                  <a:solidFill>
                    <a:srgbClr val="000000"/>
                  </a:solidFill>
                  <a:latin typeface="Verdana"/>
                  <a:ea typeface="Adobe Ming Std L"/>
                </a:rPr>
                <a:t>and to minimize their impact on job performance. The program is designed to identify the problem, offer short-term counseling, and direct you to any further assistance necessary.</a:t>
              </a:r>
              <a:endParaRPr b="0" lang="en-US" sz="1000" spc="-1" strike="noStrike">
                <a:solidFill>
                  <a:srgbClr val="000000"/>
                </a:solidFill>
                <a:latin typeface="Calibri"/>
              </a:endParaRPr>
            </a:p>
          </p:txBody>
        </p:sp>
        <p:sp>
          <p:nvSpPr>
            <p:cNvPr id="307" name="Text"/>
            <p:cNvSpPr/>
            <p:nvPr/>
          </p:nvSpPr>
          <p:spPr>
            <a:xfrm>
              <a:off x="5009040" y="3082680"/>
              <a:ext cx="2417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Employee Assistance Program</a:t>
              </a:r>
              <a:endParaRPr b="0" lang="en-US" sz="1100" spc="-1" strike="noStrike">
                <a:solidFill>
                  <a:srgbClr val="000000"/>
                </a:solidFill>
                <a:latin typeface="Calibri"/>
              </a:endParaRPr>
            </a:p>
          </p:txBody>
        </p:sp>
        <p:sp>
          <p:nvSpPr>
            <p:cNvPr id="308" name="TextBox 31"/>
            <p:cNvSpPr/>
            <p:nvPr/>
          </p:nvSpPr>
          <p:spPr>
            <a:xfrm>
              <a:off x="4848120" y="2513880"/>
              <a:ext cx="25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 comprehensive workers compensation insurance plan is provided at no cost to employees.</a:t>
              </a:r>
              <a:endParaRPr b="0" lang="en-US" sz="1000" spc="-1" strike="noStrike">
                <a:solidFill>
                  <a:srgbClr val="000000"/>
                </a:solidFill>
                <a:latin typeface="Calibri"/>
              </a:endParaRPr>
            </a:p>
          </p:txBody>
        </p:sp>
        <p:sp>
          <p:nvSpPr>
            <p:cNvPr id="309" name="TextBox 32"/>
            <p:cNvSpPr/>
            <p:nvPr/>
          </p:nvSpPr>
          <p:spPr>
            <a:xfrm>
              <a:off x="4874040" y="978480"/>
              <a:ext cx="2588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 employee is eligible to enroll in the company 401(k) Plan if he or she is  21 years or older and have completed one year of service with a minimum of 1,000 hours, beginning with his or her hire dat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191160" y="1648080"/>
            <a:ext cx="4130280" cy="3177000"/>
            <a:chOff x="191160" y="1648080"/>
            <a:chExt cx="4130280" cy="3177000"/>
          </a:xfrm>
        </p:grpSpPr>
        <p:sp>
          <p:nvSpPr>
            <p:cNvPr id="311" name="Rectangle 3"/>
            <p:cNvSpPr/>
            <p:nvPr/>
          </p:nvSpPr>
          <p:spPr>
            <a:xfrm flipH="1" flipV="1" rot="19246800">
              <a:off x="3889800" y="45468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4"/>
            <p:cNvSpPr/>
            <p:nvPr/>
          </p:nvSpPr>
          <p:spPr>
            <a:xfrm flipH="1" rot="2353200">
              <a:off x="212040" y="452772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5"/>
            <p:cNvSpPr/>
            <p:nvPr/>
          </p:nvSpPr>
          <p:spPr>
            <a:xfrm flipH="1" rot="2470800">
              <a:off x="3930480" y="17506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6"/>
            <p:cNvSpPr/>
            <p:nvPr/>
          </p:nvSpPr>
          <p:spPr>
            <a:xfrm rot="19246800">
              <a:off x="204480" y="1753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5" name="Group 7"/>
          <p:cNvGrpSpPr/>
          <p:nvPr/>
        </p:nvGrpSpPr>
        <p:grpSpPr>
          <a:xfrm>
            <a:off x="313920" y="1768320"/>
            <a:ext cx="3879720" cy="2928960"/>
            <a:chOff x="313920" y="1768320"/>
            <a:chExt cx="3879720" cy="2928960"/>
          </a:xfrm>
        </p:grpSpPr>
        <p:sp>
          <p:nvSpPr>
            <p:cNvPr id="316" name="Border"/>
            <p:cNvSpPr/>
            <p:nvPr/>
          </p:nvSpPr>
          <p:spPr>
            <a:xfrm rot="5400000">
              <a:off x="789120" y="1292760"/>
              <a:ext cx="2928960" cy="38797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7" name="Picture 9" descr=""/>
            <p:cNvPicPr/>
            <p:nvPr/>
          </p:nvPicPr>
          <p:blipFill>
            <a:blip r:embed="rId1"/>
            <a:stretch/>
          </p:blipFill>
          <p:spPr>
            <a:xfrm>
              <a:off x="431280" y="1919520"/>
              <a:ext cx="3657240" cy="2622600"/>
            </a:xfrm>
            <a:prstGeom prst="rect">
              <a:avLst/>
            </a:prstGeom>
            <a:ln w="0">
              <a:noFill/>
            </a:ln>
          </p:spPr>
        </p:pic>
      </p:grpSp>
      <p:sp>
        <p:nvSpPr>
          <p:cNvPr id="318" name="Isosceles Triangle 10"/>
          <p:cNvSpPr/>
          <p:nvPr/>
        </p:nvSpPr>
        <p:spPr>
          <a:xfrm rot="19147200">
            <a:off x="88560" y="1620360"/>
            <a:ext cx="3776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Isosceles Triangle 11"/>
          <p:cNvSpPr/>
          <p:nvPr/>
        </p:nvSpPr>
        <p:spPr>
          <a:xfrm flipH="1" rot="2549400">
            <a:off x="4049640" y="161100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Isosceles Triangle 12"/>
          <p:cNvSpPr/>
          <p:nvPr/>
        </p:nvSpPr>
        <p:spPr>
          <a:xfrm flipV="1" rot="2452800">
            <a:off x="96480" y="4663440"/>
            <a:ext cx="3794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Isosceles Triangle 13"/>
          <p:cNvSpPr/>
          <p:nvPr/>
        </p:nvSpPr>
        <p:spPr>
          <a:xfrm flipH="1" flipV="1" rot="19147200">
            <a:off x="4006800" y="46742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Picture 1" descr=""/>
          <p:cNvPicPr/>
          <p:nvPr/>
        </p:nvPicPr>
        <p:blipFill>
          <a:blip r:embed="rId2"/>
          <a:stretch/>
        </p:blipFill>
        <p:spPr>
          <a:xfrm>
            <a:off x="527040" y="411120"/>
            <a:ext cx="3400560" cy="1230480"/>
          </a:xfrm>
          <a:prstGeom prst="rect">
            <a:avLst/>
          </a:prstGeom>
          <a:ln w="0">
            <a:noFill/>
          </a:ln>
        </p:spPr>
      </p:pic>
      <p:sp>
        <p:nvSpPr>
          <p:cNvPr id="323" name="Title Tape"/>
          <p:cNvSpPr/>
          <p:nvPr/>
        </p:nvSpPr>
        <p:spPr>
          <a:xfrm rot="21364800">
            <a:off x="1751040" y="485280"/>
            <a:ext cx="5731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Group 18"/>
          <p:cNvGrpSpPr/>
          <p:nvPr/>
        </p:nvGrpSpPr>
        <p:grpSpPr>
          <a:xfrm>
            <a:off x="4438800" y="612720"/>
            <a:ext cx="3011400" cy="4578480"/>
            <a:chOff x="4438800" y="612720"/>
            <a:chExt cx="3011400" cy="4578480"/>
          </a:xfrm>
        </p:grpSpPr>
        <p:grpSp>
          <p:nvGrpSpPr>
            <p:cNvPr id="325" name="Content"/>
            <p:cNvGrpSpPr/>
            <p:nvPr/>
          </p:nvGrpSpPr>
          <p:grpSpPr>
            <a:xfrm>
              <a:off x="4438800" y="612720"/>
              <a:ext cx="3011400" cy="4578480"/>
              <a:chOff x="4438800" y="612720"/>
              <a:chExt cx="3011400" cy="4578480"/>
            </a:xfrm>
          </p:grpSpPr>
          <p:sp>
            <p:nvSpPr>
              <p:cNvPr id="326" name="Paper"/>
              <p:cNvSpPr/>
              <p:nvPr/>
            </p:nvSpPr>
            <p:spPr>
              <a:xfrm>
                <a:off x="4438800" y="612720"/>
                <a:ext cx="301140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7" name="Text"/>
              <p:cNvSpPr/>
              <p:nvPr/>
            </p:nvSpPr>
            <p:spPr>
              <a:xfrm>
                <a:off x="4621320" y="799920"/>
                <a:ext cx="14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Resignation</a:t>
                </a:r>
                <a:endParaRPr b="0" lang="en-US" sz="1000" spc="-1" strike="noStrike">
                  <a:solidFill>
                    <a:srgbClr val="000000"/>
                  </a:solidFill>
                  <a:latin typeface="Calibri"/>
                </a:endParaRPr>
              </a:p>
            </p:txBody>
          </p:sp>
        </p:grpSp>
        <p:sp>
          <p:nvSpPr>
            <p:cNvPr id="328" name="TextBox 20"/>
            <p:cNvSpPr/>
            <p:nvPr/>
          </p:nvSpPr>
          <p:spPr>
            <a:xfrm>
              <a:off x="4629960" y="1080000"/>
              <a:ext cx="24404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Voluntarily termination of employment requires a written statement of resignation with a minimum of 2 weeks' notic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29" name="Text"/>
            <p:cNvSpPr/>
            <p:nvPr/>
          </p:nvSpPr>
          <p:spPr>
            <a:xfrm>
              <a:off x="4620960" y="1792440"/>
              <a:ext cx="2058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Disciplinary Policies </a:t>
              </a:r>
              <a:br>
                <a:rPr sz="1000"/>
              </a:br>
              <a:r>
                <a:rPr b="1" lang="en-US" sz="1000" spc="-1" strike="noStrike">
                  <a:solidFill>
                    <a:srgbClr val="000000"/>
                  </a:solidFill>
                  <a:latin typeface="Verdana"/>
                  <a:ea typeface="Adobe Ming Std L"/>
                </a:rPr>
                <a:t>&amp; Procedures</a:t>
              </a:r>
              <a:endParaRPr b="0" lang="en-US" sz="1000" spc="-1" strike="noStrike">
                <a:solidFill>
                  <a:srgbClr val="000000"/>
                </a:solidFill>
                <a:latin typeface="Calibri"/>
              </a:endParaRPr>
            </a:p>
          </p:txBody>
        </p:sp>
        <p:sp>
          <p:nvSpPr>
            <p:cNvPr id="330" name="TextBox 22"/>
            <p:cNvSpPr/>
            <p:nvPr/>
          </p:nvSpPr>
          <p:spPr>
            <a:xfrm>
              <a:off x="4629960" y="2231280"/>
              <a:ext cx="2440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serious instances of misconduct, the employee can be discharged without warning.</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less serious instances of misconduct or unsatisfactory work performance, the employee can be released from employment following expiration of the final of three notices.</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pSp>
      <p:sp>
        <p:nvSpPr>
          <p:cNvPr id="331" name="Content Top"/>
          <p:cNvSpPr/>
          <p:nvPr/>
        </p:nvSpPr>
        <p:spPr>
          <a:xfrm rot="2115600">
            <a:off x="7036920" y="553680"/>
            <a:ext cx="571680" cy="2412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Content bottom"/>
          <p:cNvSpPr/>
          <p:nvPr/>
        </p:nvSpPr>
        <p:spPr>
          <a:xfrm rot="2115600">
            <a:off x="4312800" y="496836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TextBox 28"/>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kheelcenter/5279192371 via http://photopin.com </a:t>
            </a:r>
            <a:endParaRPr b="0" lang="en-US" sz="1000" spc="-1" strike="noStrike">
              <a:solidFill>
                <a:srgbClr val="000000"/>
              </a:solidFill>
              <a:latin typeface="Calibri"/>
            </a:endParaRPr>
          </a:p>
        </p:txBody>
      </p:sp>
      <p:sp>
        <p:nvSpPr>
          <p:cNvPr id="334" name="Text"/>
          <p:cNvSpPr/>
          <p:nvPr/>
        </p:nvSpPr>
        <p:spPr>
          <a:xfrm>
            <a:off x="4645080" y="3611520"/>
            <a:ext cx="242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Unemployment Insurance</a:t>
            </a:r>
            <a:endParaRPr b="0" lang="en-US" sz="1100" spc="-1" strike="noStrike">
              <a:solidFill>
                <a:srgbClr val="000000"/>
              </a:solidFill>
              <a:latin typeface="Calibri"/>
            </a:endParaRPr>
          </a:p>
        </p:txBody>
      </p:sp>
      <p:sp>
        <p:nvSpPr>
          <p:cNvPr id="335" name="TextBox 30"/>
          <p:cNvSpPr/>
          <p:nvPr/>
        </p:nvSpPr>
        <p:spPr>
          <a:xfrm>
            <a:off x="4672080" y="3914640"/>
            <a:ext cx="241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Unemployment compensation is an insurance plan provided under law to give you financial assistance when you are out of work. The company contributes; you, as an employee, do no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9:26:01Z</dcterms:created>
  <dc:creator>AJ George</dc:creator>
  <dc:description/>
  <dc:language>en-US</dc:language>
  <cp:lastModifiedBy>Kevin Siegel</cp:lastModifiedBy>
  <dcterms:modified xsi:type="dcterms:W3CDTF">2017-05-12T16:25:25Z</dcterms:modified>
  <cp:revision>92</cp:revision>
  <dc:subject/>
  <dc:title>PowerPoint Presentation</dc:title>
</cp:coreProperties>
</file>